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4AEFF-535E-4802-97DD-54EC59D72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F672-B3FA-4DCE-9A2A-9A936A0EF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5793-F045-4570-B26B-BA980D2EC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B32F-7C95-4100-8C7A-16A6A173D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87902-CABD-4EE4-A5B9-270664B5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ABC8D-001F-4143-8457-7544EADB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1D9FF-20BF-47A8-B10F-1ADD96A4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FFAAC-A7D5-44A8-BE41-5A6D0B81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8F1A6-5401-4257-A95A-54C6819D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1FC39-3AB5-49E2-AD9A-DBBE7737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0BEBA-FAA0-4A03-B3F0-2F6A2F7E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F720-D77F-43C3-A48F-2BDF62052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76C72-8133-4A38-A05B-B316E736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BA036-0A01-49F8-94B9-AD5CF7D5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867D7-C823-480D-94BB-29159E5F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575B4-EFAD-4442-A241-C6046B6D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58547-6C9B-4527-953F-5C1BE513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09F0E-C867-4E04-8071-BB1BD9E0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D5873-A661-45AF-96D3-3248A063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A0E91-B406-414C-8499-F4BEF0BF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BB3F6-CC68-45FA-8DCD-18970CBE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BF256-E452-4A9B-B17F-DCF0B092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5AFE4-DF64-49F6-828D-633535BD47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A552B-8850-4DF6-90DB-714E62FD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13203-AA50-43AD-8A2C-527C37E7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5EBB7-557E-4D68-9E65-CE736BF8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09C7C-115B-4E7E-A428-81EC99E6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0A5D7-9AC8-4CBE-A3E5-29B0ADA7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B3694-33F2-4671-8F2D-5165C534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39631-8901-4CB5-A299-41DE174F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4ADA-3DEE-418B-9AAB-6DA74BD74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8C4AF-E419-40F3-99CD-4D57F4C23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F7CB-241B-4D8D-A5BA-0CFB7A730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2530-88C9-492C-B11A-9DD34983C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DE8CD-3DD5-44EC-A1E7-170B25736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2FFA-4D15-45D0-B167-DEA7A0FC1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aramond"/>
              </a:rPr>
              <a:t>WIW-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7FC2-370B-47DB-91F9-5BC06FFAE343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484280"/>
            <a:ext cx="84960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137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aramond"/>
              </a:rPr>
              <a:t>dumitru.roman@deri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CB10-E47D-48F2-8727-8023F12F3EA6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060640"/>
            <a:ext cx="84960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54936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r>
              <a:rPr b="0" lang="nl-NL" sz="1400" spc="-1" strike="noStrike">
                <a:solidFill>
                  <a:srgbClr val="000000"/>
                </a:solidFill>
                <a:latin typeface="Garamond"/>
              </a:rPr>
              <a:t>04-08-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060640"/>
            <a:ext cx="849600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Garamond"/>
              </a:rPr>
              <a:t>04-08-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aramond"/>
              </a:rPr>
              <a:t>dumitru.roman@deri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B7B3-B443-4AB3-B4FB-E2ABD1339AE4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2205000"/>
            <a:ext cx="7772400" cy="30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GODO: Goal driven orchestration for Semantic Web Services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… or how do spells work in the XXI centu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4000" y="5192280"/>
            <a:ext cx="780876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Juan Miguel Gomez, Mariano Rico, Francisco Garcia and Christoph Bussler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aramond"/>
              </a:rPr>
              <a:t>Digital Enterprise Research Institut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GODO demo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uch more fun in the demo…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 not miss i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5506-65E5-4C5D-A4B9-F48A924D31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uture research and directions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in problem is the pure syntactical match from goals extracted from the text and WSML goa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wever, several useful tools out there: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Karlsruhe TextoOnto supports semi-automatic creation of ontologies by applying text mining algorithm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OntoText Knowledge Information Management (KIM)  platform. KIM enables Semantic annotation of text and at more length, an automatic ontology population and open-domain dynamic semantic annotation of unstructured and semi-structured conten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y using them it could be possible a match at a semantic level (ontologies merging and alignment techniqu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A83E-A807-49CE-B6BA-DC3881804A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uture research and directions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ture evolution of WSMO Orchestration will impact in our perception of orchestration so fa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received some enthusiastic feedback from people of the cluster, so let’s expect soon GODO 2.0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758C-C4C5-4CE9-8772-D4C0C3DFEC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26920" y="3860280"/>
            <a:ext cx="7809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S and Goal Driven Orchestr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GODO architectur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travel plan use ca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ture research and direc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9FAE-55DC-4551-9372-D43C7D4C05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r centuries, mankind has looked for a way of making their wishes come true just stating the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ncient story of the Middle East.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Then Al – Hadin, son of Harun Al-Raschid commanded the genius to bring him one thousand million treasures… and so he did”,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The 1001 nights. Robert Graves edition.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iddle Age:  Luciano from Samosata famous mirror, which could be asked for anything on earth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sent: Paris FNAC exampl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uture: There comes the robots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1E37-288C-442C-A47C-51E388A5A9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Some promises of  SWS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WSMO/ WSMX a goal represents the wish that a client may have when he consults a web service and it also contains a list of preferenc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se preferences represent constraints on non-functional properties of a web service i.e. they narrow the scope of the selection spectrum of a web service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SMX promises that given a certain WSMO goal described in WSML, it can achieve i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3046-4F1F-4DD2-ADA7-6ACF2446EB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Goal driven orchestrati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assume for now that a goal is a single-step execu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rchestration is the achievement of several goals by performing all their objectiv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can we bridge the gap between the client expressing their wishes and the achievement of them by the WSMX platform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B9A1-A4E0-4B6F-B44F-D325B95CCA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GODO functionali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ODO uses Natural Language Processing techniques (e.g. Multiple classification ripple down rules)  to filter the different concepts and relationships of the text to create a “lightweight ontology”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user writes down their goals in natural language and they are extracted from the tex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ose goals are matched and mapped to the WSMO / WSMX goa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ose goals are sent to the WSM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91F9-7BE3-4C72-9997-6B14817010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The GODO Architectur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43280" y="1952640"/>
            <a:ext cx="6300720" cy="4284720"/>
            <a:chOff x="1943280" y="1952640"/>
            <a:chExt cx="6300720" cy="42847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943280" y="1952640"/>
              <a:ext cx="6300720" cy="35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092320" y="5784840"/>
              <a:ext cx="58197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igure . The GODO archite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88E6-D169-4CC2-B7C1-5F5BA0E74E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e travel plan use case (I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40000" y="1592280"/>
            <a:ext cx="5651280" cy="502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4144-26FB-43A2-82F0-8B963BFF89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e travel plan use case (II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66920" y="1600200"/>
            <a:ext cx="64101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8032-6280-4269-ABB4-A17015EDF2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9:36:29Z</dcterms:created>
  <dc:creator>Juan Miguel Gomez</dc:creator>
  <dc:description/>
  <dc:language>en-US</dc:language>
  <cp:lastModifiedBy>Holger Lausen</cp:lastModifiedBy>
  <dcterms:modified xsi:type="dcterms:W3CDTF">2004-09-29T08:17:11Z</dcterms:modified>
  <cp:revision>474</cp:revision>
  <dc:subject/>
  <dc:title>GODO: Goal driven orchestration for SWS</dc:title>
</cp:coreProperties>
</file>