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3C8-E482-4308-98EC-C86B1350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4825-F64F-4A13-B9EB-05B77B31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DFD-F113-4D6E-B31E-F1C6C913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BF0-3B68-488D-91FC-EB6D703B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48F5-3E1E-4F5E-AC81-BF3B57D3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BFB9-BC2E-4DC6-9EB0-7668A0CC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D53D-9F65-4C3B-AC5C-D3DB901B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C994-F1A5-4407-9F0A-B486B968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58A7-C50B-4ED6-865E-E4398840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6C8E-F2C7-4104-8A30-5A2F5514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D6AD-FA02-4E40-9EC7-86728AEB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EF63-DCFA-485D-94FA-B17DBA1E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9621-EE72-4012-9D6B-C0FA30C4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384F-D11C-447F-B7C5-9767055D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D8A7-D9FB-4FA4-8CDF-6814AC1C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4283-C672-41E3-B610-D49A724A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E3B2-3F50-465B-8074-D50FF090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DB8-C23D-42DE-B1EB-5BAD0637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463-0D0F-4DFC-A9A0-8240A842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9A6D-3F38-4D37-941C-8470DFFC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025-4E7D-41F3-B350-07DFF247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6CE4-2790-4EFD-9940-A194FF23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9F96-E3F5-4CCA-973A-3AE560D9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9D1A-A987-4CBB-AD6D-9F74B8D9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F217-E458-4541-ACB6-395C5A5FE1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8F2F-E36E-482D-AD69-FD285E6785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WSMO Implementation Workshop 2004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28640"/>
            <a:ext cx="73422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Woog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mee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Semantic Web F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U. Keller, M. Stollberg, D. Fens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WS Discovery: Modelling II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752120"/>
            <a:ext cx="8028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Verdana"/>
              </a:rPr>
              <a:t>Now …</a:t>
            </a:r>
            <a:r>
              <a:rPr b="0" lang="de-DE" sz="3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atching criteria can distinguish between single executions of a WS and an arbitrary number of such exec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336699"/>
                </a:solidFill>
                <a:latin typeface="Verdana"/>
              </a:rPr>
              <a:t>Plugin-Mat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CourierPS"/>
              </a:rPr>
              <a:t>goal(x) </a:t>
            </a:r>
            <a:r>
              <a:rPr b="1" lang="de-DE" sz="1700" spc="-1" strike="noStrike">
                <a:solidFill>
                  <a:srgbClr val="000000"/>
                </a:solidFill>
                <a:latin typeface="SymbolPS"/>
                <a:ea typeface="SymbolPS"/>
              </a:rPr>
              <a:t></a:t>
            </a:r>
            <a:r>
              <a:rPr b="1" lang="de-DE" sz="1700" spc="-1" strike="noStrike">
                <a:solidFill>
                  <a:srgbClr val="000000"/>
                </a:solidFill>
                <a:latin typeface="CourierPS"/>
              </a:rPr>
              <a:t> </a:t>
            </a:r>
            <a:r>
              <a:rPr b="1" lang="de-DE" sz="1700" spc="-1" strike="noStrike">
                <a:solidFill>
                  <a:srgbClr val="000000"/>
                </a:solidFill>
                <a:latin typeface="SymbolPS"/>
                <a:ea typeface="SymbolPS"/>
              </a:rPr>
              <a:t></a:t>
            </a:r>
            <a:r>
              <a:rPr b="1" lang="de-DE" sz="1700" spc="-1" strike="noStrike">
                <a:solidFill>
                  <a:srgbClr val="000000"/>
                </a:solidFill>
                <a:latin typeface="CourierPS"/>
              </a:rPr>
              <a:t>(x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CourierPS"/>
              </a:rPr>
              <a:t>ws(x, i1,…, iN) </a:t>
            </a:r>
            <a:r>
              <a:rPr b="1" lang="de-DE" sz="1700" spc="-1" strike="noStrike">
                <a:solidFill>
                  <a:srgbClr val="000000"/>
                </a:solidFill>
                <a:latin typeface="SymbolPS"/>
                <a:ea typeface="SymbolPS"/>
              </a:rPr>
              <a:t></a:t>
            </a:r>
            <a:r>
              <a:rPr b="1" lang="de-DE" sz="1700" spc="-1" strike="noStrike">
                <a:solidFill>
                  <a:srgbClr val="000000"/>
                </a:solidFill>
                <a:latin typeface="CourierPS"/>
              </a:rPr>
              <a:t> </a:t>
            </a:r>
            <a:r>
              <a:rPr b="1" lang="de-DE" sz="1700" spc="-1" strike="noStrike">
                <a:solidFill>
                  <a:srgbClr val="000000"/>
                </a:solidFill>
                <a:latin typeface="SymbolPS"/>
                <a:ea typeface="SymbolPS"/>
              </a:rPr>
              <a:t></a:t>
            </a:r>
            <a:r>
              <a:rPr b="1" lang="de-DE" sz="1700" spc="-1" strike="noStrike" baseline="30000">
                <a:solidFill>
                  <a:srgbClr val="000000"/>
                </a:solidFill>
                <a:latin typeface="CourierPS"/>
              </a:rPr>
              <a:t>pre</a:t>
            </a:r>
            <a:r>
              <a:rPr b="1" lang="de-DE" sz="1700" spc="-1" strike="noStrike">
                <a:solidFill>
                  <a:srgbClr val="000000"/>
                </a:solidFill>
                <a:latin typeface="CourierPS"/>
              </a:rPr>
              <a:t>(i1,…, iN) </a:t>
            </a:r>
            <a:r>
              <a:rPr b="1" lang="de-DE" sz="1700" spc="-1" strike="noStrike">
                <a:solidFill>
                  <a:srgbClr val="000000"/>
                </a:solidFill>
                <a:latin typeface="SymbolPS"/>
                <a:ea typeface="SymbolPS"/>
              </a:rPr>
              <a:t></a:t>
            </a:r>
            <a:r>
              <a:rPr b="1" lang="de-DE" sz="1700" spc="-1" strike="noStrike">
                <a:solidFill>
                  <a:srgbClr val="000000"/>
                </a:solidFill>
                <a:latin typeface="CourierPS"/>
              </a:rPr>
              <a:t> </a:t>
            </a:r>
            <a:r>
              <a:rPr b="1" lang="de-DE" sz="1700" spc="-1" strike="noStrike">
                <a:solidFill>
                  <a:srgbClr val="000000"/>
                </a:solidFill>
                <a:latin typeface="SymbolPS"/>
                <a:ea typeface="SymbolPS"/>
              </a:rPr>
              <a:t></a:t>
            </a:r>
            <a:r>
              <a:rPr b="1" lang="de-DE" sz="1700" spc="-1" strike="noStrike" baseline="30000">
                <a:solidFill>
                  <a:srgbClr val="000000"/>
                </a:solidFill>
                <a:latin typeface="CourierPS"/>
              </a:rPr>
              <a:t>post</a:t>
            </a:r>
            <a:r>
              <a:rPr b="1" lang="de-DE" sz="1700" spc="-1" strike="noStrike">
                <a:solidFill>
                  <a:srgbClr val="000000"/>
                </a:solidFill>
                <a:latin typeface="CourierPS"/>
              </a:rPr>
              <a:t>(i1,…, iN,x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99"/>
                </a:solidFill>
                <a:latin typeface="Verdana"/>
              </a:rPr>
              <a:t>with single exec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xists i1,…,iN (forAll x ( goal(x) </a:t>
            </a:r>
            <a:r>
              <a:rPr b="0" lang="de-DE" sz="1800" spc="-1" strike="noStrike">
                <a:solidFill>
                  <a:srgbClr val="000000"/>
                </a:solidFill>
                <a:latin typeface="SymbolPS"/>
                <a:ea typeface="SymbolPS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ws(x,i1,…,iN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99"/>
                </a:solidFill>
                <a:latin typeface="Verdana"/>
              </a:rPr>
              <a:t>with an arbitrary number of exec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orAll x (exists i1,…,iN ( goal(x) </a:t>
            </a:r>
            <a:r>
              <a:rPr b="0" lang="de-DE" sz="1800" spc="-1" strike="noStrike">
                <a:solidFill>
                  <a:srgbClr val="000000"/>
                </a:solidFill>
                <a:latin typeface="SymbolPS"/>
                <a:ea typeface="SymbolPS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ws(x,i1,…,iN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From Web Service Discovery to Service Discove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Verdana"/>
              </a:rPr>
              <a:t>First step: </a:t>
            </a:r>
            <a:r>
              <a:rPr b="0" lang="de-DE" sz="2600" spc="-1" strike="noStrike">
                <a:solidFill>
                  <a:srgbClr val="cc0000"/>
                </a:solidFill>
                <a:latin typeface="Verdana"/>
              </a:rPr>
              <a:t>WS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Identify possible Web Services which might resolve the user‘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Ignores concrete service input / preco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Verdana"/>
              </a:rPr>
              <a:t>Second step:</a:t>
            </a: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600" spc="-1" strike="noStrike">
                <a:solidFill>
                  <a:srgbClr val="cc0000"/>
                </a:solidFill>
                <a:latin typeface="Verdana"/>
              </a:rPr>
              <a:t>Service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Actually execute the web service and check whether a service can actually be provided (by the WS) which resolves the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Verdana"/>
              </a:rPr>
              <a:t>Note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By using „</a:t>
            </a:r>
            <a:r>
              <a:rPr b="0" i="1" lang="de-DE" sz="2200" spc="-1" strike="noStrike">
                <a:solidFill>
                  <a:srgbClr val="000000"/>
                </a:solidFill>
                <a:latin typeface="Verdana"/>
              </a:rPr>
              <a:t>heavyweight“ modelling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, one can in principle have an intermediate step between (1) and (2), where a web service is executed solely on a logical level (not in realit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37480" y="811080"/>
            <a:ext cx="8285040" cy="2716560"/>
            <a:chOff x="537480" y="811080"/>
            <a:chExt cx="8285040" cy="2716560"/>
          </a:xfrm>
        </p:grpSpPr>
        <p:sp>
          <p:nvSpPr>
            <p:cNvPr id="124" name=""/>
            <p:cNvSpPr/>
            <p:nvPr/>
          </p:nvSpPr>
          <p:spPr>
            <a:xfrm rot="21144600">
              <a:off x="610920" y="1341360"/>
              <a:ext cx="8137440" cy="1656000"/>
            </a:xfrm>
            <a:prstGeom prst="ellipse">
              <a:avLst/>
            </a:prstGeom>
            <a:gradFill rotWithShape="0">
              <a:gsLst>
                <a:gs pos="0">
                  <a:srgbClr val="688db3"/>
                </a:gs>
                <a:gs pos="50000">
                  <a:srgbClr val="336699">
                    <a:alpha val="40000"/>
                  </a:srgbClr>
                </a:gs>
                <a:gs pos="100000">
                  <a:srgbClr val="688db3"/>
                </a:gs>
              </a:gsLst>
              <a:lin ang="5856000"/>
            </a:gra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52520" y="1197000"/>
              <a:ext cx="2094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cc0000"/>
                  </a:solidFill>
                  <a:latin typeface="Verdana"/>
                </a:rPr>
                <a:t>Only th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cc0000"/>
                  </a:solidFill>
                  <a:latin typeface="Verdana"/>
                </a:rPr>
                <a:t>is part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cc0000"/>
                  </a:solidFill>
                  <a:latin typeface="Verdana"/>
                </a:rPr>
                <a:t>WSMO Discove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3800" y="2436840"/>
            <a:ext cx="8241120" cy="2388960"/>
            <a:chOff x="703800" y="2436840"/>
            <a:chExt cx="8241120" cy="2388960"/>
          </a:xfrm>
        </p:grpSpPr>
        <p:sp>
          <p:nvSpPr>
            <p:cNvPr id="127" name=""/>
            <p:cNvSpPr/>
            <p:nvPr/>
          </p:nvSpPr>
          <p:spPr>
            <a:xfrm rot="21144600">
              <a:off x="755640" y="2968560"/>
              <a:ext cx="8137440" cy="1325520"/>
            </a:xfrm>
            <a:prstGeom prst="ellipse">
              <a:avLst/>
            </a:prstGeom>
            <a:gradFill rotWithShape="0">
              <a:gsLst>
                <a:gs pos="0">
                  <a:srgbClr val="eca8a8"/>
                </a:gs>
                <a:gs pos="50000">
                  <a:srgbClr val="cc0000">
                    <a:alpha val="40000"/>
                  </a:srgbClr>
                </a:gs>
                <a:gs pos="100000">
                  <a:srgbClr val="eca8a8"/>
                </a:gs>
              </a:gsLst>
              <a:lin ang="5856000"/>
            </a:gra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21760" y="2565360"/>
              <a:ext cx="302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66"/>
                  </a:solidFill>
                  <a:latin typeface="Verdana"/>
                </a:rPr>
                <a:t>Th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66"/>
                  </a:solidFill>
                  <a:latin typeface="Verdana"/>
                </a:rPr>
                <a:t>part is up to ap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8200" y="2637000"/>
            <a:ext cx="2809800" cy="4103640"/>
            <a:chOff x="538200" y="2637000"/>
            <a:chExt cx="2809800" cy="4103640"/>
          </a:xfrm>
        </p:grpSpPr>
        <p:sp>
          <p:nvSpPr>
            <p:cNvPr id="130" name=""/>
            <p:cNvSpPr/>
            <p:nvPr/>
          </p:nvSpPr>
          <p:spPr>
            <a:xfrm rot="5400000">
              <a:off x="-1153080" y="4328280"/>
              <a:ext cx="4103640" cy="720720"/>
            </a:xfrm>
            <a:custGeom>
              <a:avLst/>
              <a:gdLst>
                <a:gd name="textAreaLeft" fmla="*/ 1400760 w 4103640"/>
                <a:gd name="textAreaRight" fmla="*/ 3656520 w 4103640"/>
                <a:gd name="textAreaTop" fmla="*/ 544680 h 720720"/>
                <a:gd name="textAreaBottom" fmla="*/ 64224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678"/>
                  </a:moveTo>
                  <a:lnTo>
                    <a:pt x="16324" y="18678"/>
                  </a:lnTo>
                  <a:lnTo>
                    <a:pt x="16324" y="7374"/>
                  </a:lnTo>
                  <a:lnTo>
                    <a:pt x="13970" y="7374"/>
                  </a:lnTo>
                  <a:lnTo>
                    <a:pt x="17785" y="0"/>
                  </a:lnTo>
                  <a:lnTo>
                    <a:pt x="21600" y="7374"/>
                  </a:lnTo>
                  <a:lnTo>
                    <a:pt x="19246" y="7374"/>
                  </a:lnTo>
                  <a:lnTo>
                    <a:pt x="1924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03280" y="5805360"/>
              <a:ext cx="1944720" cy="52056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Verdana"/>
                </a:rPr>
                <a:t>WOOGLE!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An Example … (I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Verdana"/>
              </a:rPr>
              <a:t>A goal 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de-DE" sz="2600" spc="-1" strike="noStrike">
                <a:solidFill>
                  <a:srgbClr val="000000"/>
                </a:solidFill>
                <a:latin typeface="Verdana"/>
              </a:rPr>
              <a:t>I want to know about all sports events in Frankfurt in the period of Sept 29th to Oct 14th 2004“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CourierPS"/>
              </a:rPr>
              <a:t>goal(x) </a:t>
            </a:r>
            <a:r>
              <a:rPr b="1" lang="de-DE" sz="2000" spc="-1" strike="noStrike">
                <a:solidFill>
                  <a:srgbClr val="cc0000"/>
                </a:solidFill>
                <a:latin typeface="SymbolPS"/>
                <a:ea typeface="SymbolPS"/>
              </a:rPr>
              <a:t></a:t>
            </a:r>
            <a:r>
              <a:rPr b="1" lang="de-DE" sz="2000" spc="-1" strike="noStrike">
                <a:solidFill>
                  <a:srgbClr val="cc0000"/>
                </a:solidFill>
                <a:latin typeface="CourierPS"/>
              </a:rPr>
              <a:t> exists ?D (</a:t>
            </a:r>
            <a:br>
              <a:rPr sz="2000"/>
            </a:br>
            <a:r>
              <a:rPr b="1" lang="de-DE" sz="2000" spc="-1" strike="noStrike">
                <a:solidFill>
                  <a:srgbClr val="cc0000"/>
                </a:solidFill>
                <a:latin typeface="CourierPS"/>
              </a:rPr>
              <a:t>x[where hasValue frankfurt, </a:t>
            </a:r>
            <a:br>
              <a:rPr sz="2000"/>
            </a:br>
            <a:r>
              <a:rPr b="1" lang="de-DE" sz="2000" spc="-1" strike="noStrike">
                <a:solidFill>
                  <a:srgbClr val="cc0000"/>
                </a:solidFill>
                <a:latin typeface="CourierPS"/>
              </a:rPr>
              <a:t>  when hasValue ?D] memberOf SportsEvent and date-after-eq(?D, 29.09.2004)</a:t>
            </a:r>
            <a:br>
              <a:rPr sz="2000"/>
            </a:br>
            <a:r>
              <a:rPr b="1" lang="de-DE" sz="2000" spc="-1" strike="noStrike">
                <a:solidFill>
                  <a:srgbClr val="cc0000"/>
                </a:solidFill>
                <a:latin typeface="CourierPS"/>
              </a:rPr>
              <a:t>and date-before-eq(?D, 14.10.2004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An Example … (II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Verdana"/>
              </a:rPr>
              <a:t>A web service descrip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de-DE" sz="2600" spc="-1" strike="noStrike">
                <a:solidFill>
                  <a:srgbClr val="000000"/>
                </a:solidFill>
                <a:latin typeface="Verdana"/>
              </a:rPr>
              <a:t>The service delivers all events for a given day in the current year in a given region in Germany“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99"/>
                </a:solidFill>
                <a:latin typeface="CourierPS"/>
              </a:rPr>
              <a:t>ws(x, ?iDay,?iRegion) </a:t>
            </a:r>
            <a:r>
              <a:rPr b="1" lang="de-DE" sz="2000" spc="-1" strike="noStrike">
                <a:solidFill>
                  <a:srgbClr val="336699"/>
                </a:solidFill>
                <a:latin typeface="SymbolPS"/>
                <a:ea typeface="SymbolPS"/>
              </a:rPr>
              <a:t>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99"/>
                </a:solidFill>
                <a:latin typeface="CourierPS"/>
              </a:rPr>
              <a:t>exists ?C( </a:t>
            </a:r>
            <a:br>
              <a:rPr sz="2000"/>
            </a:br>
            <a:r>
              <a:rPr b="1" lang="de-DE" sz="2000" spc="-1" strike="noStrike">
                <a:solidFill>
                  <a:srgbClr val="336699"/>
                </a:solidFill>
                <a:latin typeface="CourierPS"/>
              </a:rPr>
              <a:t>x[where hasValue ?C, </a:t>
            </a:r>
            <a:br>
              <a:rPr sz="2000"/>
            </a:br>
            <a:r>
              <a:rPr b="1" lang="de-DE" sz="2000" spc="-1" strike="noStrike">
                <a:solidFill>
                  <a:srgbClr val="336699"/>
                </a:solidFill>
                <a:latin typeface="CourierPS"/>
              </a:rPr>
              <a:t>  when hasValue ?iDay] memberOf Event and</a:t>
            </a:r>
            <a:br>
              <a:rPr sz="2000"/>
            </a:br>
            <a:r>
              <a:rPr b="1" lang="de-DE" sz="2000" spc="-1" strike="noStrike">
                <a:solidFill>
                  <a:srgbClr val="336699"/>
                </a:solidFill>
                <a:latin typeface="CourierPS"/>
              </a:rPr>
              <a:t>located-in(?C, ?iRegion) an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99"/>
                </a:solidFill>
                <a:latin typeface="CourierPS"/>
              </a:rPr>
              <a:t>year-of-date(?iDay, currentYear) 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99"/>
                </a:solidFill>
                <a:latin typeface="CourierPS"/>
              </a:rPr>
              <a:t>located-in(?iRegion, german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An Example … (III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Verdana"/>
              </a:rPr>
              <a:t>The proofobligation 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ser selects Plugin-Match (coverage) with single invo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PS"/>
              </a:rPr>
              <a:t>exists ?iDay, iRegion (forAll x (</a:t>
            </a:r>
            <a:br>
              <a:rPr sz="1600"/>
            </a:br>
            <a:r>
              <a:rPr b="1" lang="de-DE" sz="1600" spc="-1" strike="noStrike">
                <a:solidFill>
                  <a:srgbClr val="cc0000"/>
                </a:solidFill>
                <a:latin typeface="CourierPS"/>
              </a:rPr>
              <a:t>exists ?D ( </a:t>
            </a:r>
            <a:r>
              <a:rPr b="1" lang="de-DE" sz="1500" spc="-1" strike="noStrike">
                <a:solidFill>
                  <a:srgbClr val="cc0000"/>
                </a:solidFill>
                <a:latin typeface="CourierPS"/>
              </a:rPr>
              <a:t>x[where hasValue frankfurt, </a:t>
            </a:r>
            <a:br>
              <a:rPr sz="1500"/>
            </a:br>
            <a:r>
              <a:rPr b="1" lang="de-DE" sz="1500" spc="-1" strike="noStrike">
                <a:solidFill>
                  <a:srgbClr val="cc0000"/>
                </a:solidFill>
                <a:latin typeface="CourierPS"/>
              </a:rPr>
              <a:t>  when hasValue ?D] memberOf SportsEvent </a:t>
            </a:r>
            <a:br>
              <a:rPr sz="1500"/>
            </a:br>
            <a:r>
              <a:rPr b="1" lang="de-DE" sz="1500" spc="-1" strike="noStrike">
                <a:solidFill>
                  <a:srgbClr val="cc0000"/>
                </a:solidFill>
                <a:latin typeface="CourierPS"/>
              </a:rPr>
              <a:t>and date-after-eq(?D, 29.09.2004)</a:t>
            </a:r>
            <a:br>
              <a:rPr sz="1500"/>
            </a:br>
            <a:r>
              <a:rPr b="1" lang="de-DE" sz="1500" spc="-1" strike="noStrike">
                <a:solidFill>
                  <a:srgbClr val="cc0000"/>
                </a:solidFill>
                <a:latin typeface="CourierPS"/>
              </a:rPr>
              <a:t>and date-before-eq(?D, 14.10.2004)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PS"/>
              </a:rPr>
              <a:t>-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exists ?C( </a:t>
            </a:r>
            <a:br>
              <a:rPr sz="1600"/>
            </a:b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x[where hasValue ?C, </a:t>
            </a:r>
            <a:br>
              <a:rPr sz="1600"/>
            </a:b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  </a:t>
            </a: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  when hasValue ?iDay] memberOf Event and</a:t>
            </a:r>
            <a:br>
              <a:rPr sz="1600"/>
            </a:b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located-in(?C, ?iRegion) an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located-in(?iRegion, germany) an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year-of-date(?iDay, currentYea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)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5654880" y="836640"/>
            <a:ext cx="282024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 MATC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An Example … (IV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Verdana"/>
              </a:rPr>
              <a:t>The proofobligation 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ser selects Plugin-Match (coverage) with multiple invo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PS"/>
              </a:rPr>
              <a:t>forAll x (exists ?iDay, iRegion (</a:t>
            </a:r>
            <a:br>
              <a:rPr sz="1600"/>
            </a:br>
            <a:r>
              <a:rPr b="1" lang="de-DE" sz="1600" spc="-1" strike="noStrike">
                <a:solidFill>
                  <a:srgbClr val="cc0000"/>
                </a:solidFill>
                <a:latin typeface="CourierPS"/>
              </a:rPr>
              <a:t>exists ?D( </a:t>
            </a:r>
            <a:r>
              <a:rPr b="1" lang="de-DE" sz="1500" spc="-1" strike="noStrike">
                <a:solidFill>
                  <a:srgbClr val="cc0000"/>
                </a:solidFill>
                <a:latin typeface="CourierPS"/>
              </a:rPr>
              <a:t>x[where hasValue frankfurt, </a:t>
            </a:r>
            <a:br>
              <a:rPr sz="1500"/>
            </a:br>
            <a:r>
              <a:rPr b="1" lang="de-DE" sz="1500" spc="-1" strike="noStrike">
                <a:solidFill>
                  <a:srgbClr val="cc0000"/>
                </a:solidFill>
                <a:latin typeface="CourierPS"/>
              </a:rPr>
              <a:t>  when hasValue ?D] memberOf SportsEvent </a:t>
            </a:r>
            <a:br>
              <a:rPr sz="1500"/>
            </a:br>
            <a:r>
              <a:rPr b="1" lang="de-DE" sz="1500" spc="-1" strike="noStrike">
                <a:solidFill>
                  <a:srgbClr val="cc0000"/>
                </a:solidFill>
                <a:latin typeface="CourierPS"/>
              </a:rPr>
              <a:t>and date-after-eq(?D, 29.09.2004)</a:t>
            </a:r>
            <a:br>
              <a:rPr sz="1500"/>
            </a:br>
            <a:r>
              <a:rPr b="1" lang="de-DE" sz="1500" spc="-1" strike="noStrike">
                <a:solidFill>
                  <a:srgbClr val="cc0000"/>
                </a:solidFill>
                <a:latin typeface="CourierPS"/>
              </a:rPr>
              <a:t>and date-before-eq(?D, 14.10.2004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PS"/>
              </a:rPr>
              <a:t>-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exists ?C( </a:t>
            </a:r>
            <a:br>
              <a:rPr sz="1600"/>
            </a:b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x[where hasValue ?C, </a:t>
            </a:r>
            <a:br>
              <a:rPr sz="1600"/>
            </a:b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  </a:t>
            </a: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  when hasValue ?iDay] memberOf Event and</a:t>
            </a:r>
            <a:br>
              <a:rPr sz="1600"/>
            </a:b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located-in(?C, ?iRegion) an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located-in(?iRegion, germany) an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year-of-date(?iDay, currentYea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)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6551640" y="836640"/>
            <a:ext cx="196524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ATC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2600" y="3500280"/>
            <a:ext cx="2129760" cy="916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?iRegion = H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?iDay = ?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?C = frankf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Woogle:</a:t>
            </a:r>
            <a:br>
              <a:rPr sz="3400"/>
            </a:b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A prototypical implementation 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Verdana"/>
              </a:rPr>
              <a:t>Translation-based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 Approac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upports full WSML-F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ranslate WSML-FOL to First-order Log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Verdana"/>
              </a:rPr>
              <a:t>Main inference eng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irst-order Logic Theorem Prover (with Equal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urrently: TPTP format for loose coupling with pr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Verdana"/>
              </a:rPr>
              <a:t>Does it scale 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orry, we don‘t know …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cc0000"/>
                </a:solidFill>
                <a:latin typeface="Verdana"/>
              </a:rPr>
              <a:t>… </a:t>
            </a:r>
            <a:r>
              <a:rPr b="1" lang="de-DE" sz="2000" spc="-1" strike="noStrike">
                <a:solidFill>
                  <a:srgbClr val="cc0000"/>
                </a:solidFill>
                <a:latin typeface="Verdana"/>
              </a:rPr>
              <a:t>yet</a:t>
            </a:r>
            <a:r>
              <a:rPr b="0" lang="de-DE" sz="2000" spc="-1" strike="noStrike">
                <a:solidFill>
                  <a:srgbClr val="cc0000"/>
                </a:solidFill>
                <a:latin typeface="Verdana"/>
              </a:rPr>
              <a:t> :- (   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teresting approach: Tuplespace-based archite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epocessing techniques to extract relevant axio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xploit Template/Instance Scenario if possible (SW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A prototypical implementation 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Verdana"/>
              </a:rPr>
              <a:t>Pros 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Supports full WSML-F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Generality gives Flexi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Prover can be reused for different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Verdana"/>
              </a:rPr>
              <a:t>Cons 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Full First-order Logic Theorem Pro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Scalability is a concer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Perhaps WSML-FOL too heavy for many applications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A WSMO-enabled Application: </a:t>
            </a:r>
            <a:br>
              <a:rPr sz="3400"/>
            </a:br>
            <a:r>
              <a:rPr b="1" lang="de-DE" sz="3400" spc="-1" strike="noStrike">
                <a:solidFill>
                  <a:srgbClr val="000000"/>
                </a:solidFill>
                <a:latin typeface="Verdana"/>
              </a:rPr>
              <a:t>Semantic Web Fr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1" lang="de-DE" sz="2100" spc="-1" strike="noStrike">
                <a:solidFill>
                  <a:srgbClr val="000000"/>
                </a:solidFill>
                <a:latin typeface="Verdana"/>
              </a:rPr>
              <a:t>Semantic Web Fred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Verdana"/>
              </a:rPr>
              <a:t>Not a weird Internet junkie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Verdana"/>
              </a:rPr>
              <a:t>But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An agent-based system that supports </a:t>
            </a: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automated goal-resolution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 in a </a:t>
            </a: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cooperative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SMO-enabled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software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t combines techniques from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Agent community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Semantic Web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Semantic Web Fred (III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898560" y="1773360"/>
            <a:ext cx="7345440" cy="480204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2743560" y="3854520"/>
            <a:ext cx="1684080" cy="1374840"/>
            <a:chOff x="2743560" y="3854520"/>
            <a:chExt cx="1684080" cy="1374840"/>
          </a:xfrm>
        </p:grpSpPr>
        <p:sp>
          <p:nvSpPr>
            <p:cNvPr id="152" name=""/>
            <p:cNvSpPr/>
            <p:nvPr/>
          </p:nvSpPr>
          <p:spPr>
            <a:xfrm>
              <a:off x="2987640" y="4292640"/>
              <a:ext cx="1440000" cy="936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43560" y="3854520"/>
              <a:ext cx="1188000" cy="368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WOO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Roadmap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Verdana"/>
              </a:rPr>
              <a:t>WSMO and Web Service 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Verdana"/>
              </a:rPr>
              <a:t>A uniform semantic Modelling Approa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Verdana"/>
              </a:rPr>
              <a:t>Discovery Process &amp; WSM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Verdana"/>
              </a:rPr>
              <a:t>Woogle &amp; a Woogle-Prototy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Verdana"/>
              </a:rPr>
              <a:t>An Application: Semantic Web F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Verdana"/>
              </a:rPr>
              <a:t>Conclusions &amp; Future wo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Conclusions &amp; Future Wo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Verdana"/>
              </a:rPr>
              <a:t>Currentl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General framework for Service Discovery has been outlin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We are in the process of implementing a prototype implement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Implementation is used in SWF proje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Verdana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Evaluation of modelling approa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Evaluation of the Woogle prototyp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covery &amp; WSM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Verdana"/>
              </a:rPr>
              <a:t>Web Service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cc0000"/>
                </a:solidFill>
                <a:latin typeface="Verdana"/>
              </a:rPr>
              <a:t>Process of identifying web services which can (possibly) help in resolving a user‘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Web Service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vs.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Servic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Requires: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Goal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Service specific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Currently, we plan to support a wide range of techniques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Require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different efforts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for specific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Allow for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different degrees of accurac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Have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different computational complex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covery &amp; WSMO (II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Three principle approaches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Syntactical approa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Keyword-based search, natural language processing techniques, Controlled vocabular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Lightweight semantic approa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Ontologies, Action-Object-Modelling, Coarse-grained semantic description of a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Heavyweight semantic approa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Describes the service capability in detail, takes in-out relationship  into account, Fine-grained web service descrip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066320" y="6237360"/>
            <a:ext cx="68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» </a:t>
            </a:r>
            <a:r>
              <a:rPr b="1" lang="de-DE" sz="1800" spc="-1" strike="noStrike">
                <a:solidFill>
                  <a:srgbClr val="cc0000"/>
                </a:solidFill>
                <a:latin typeface="Verdana"/>
              </a:rPr>
              <a:t>Here: we are concerned with </a:t>
            </a:r>
            <a:r>
              <a:rPr b="1" i="1" lang="de-DE" sz="1800" spc="-1" strike="noStrike">
                <a:solidFill>
                  <a:srgbClr val="cc0000"/>
                </a:solidFill>
                <a:latin typeface="Verdana"/>
              </a:rPr>
              <a:t>semantic-based</a:t>
            </a:r>
            <a:r>
              <a:rPr b="1" lang="de-DE" sz="1800" spc="-1" strike="noStrike">
                <a:solidFill>
                  <a:srgbClr val="cc0000"/>
                </a:solidFill>
                <a:latin typeface="Verdana"/>
              </a:rPr>
              <a:t> approach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WS Discovery: Modelling 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Verdana"/>
              </a:rPr>
              <a:t>DL-Style Modell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cc0000"/>
                </a:solidFill>
                <a:latin typeface="Verdana"/>
              </a:rPr>
              <a:t>The world is understood as sets of th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Goal = Set of items ; WS = Set of ite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Checking a </a:t>
            </a:r>
            <a:r>
              <a:rPr b="1" lang="de-DE" sz="2600" spc="-1" strike="noStrike">
                <a:solidFill>
                  <a:srgbClr val="000000"/>
                </a:solidFill>
                <a:latin typeface="Verdana"/>
              </a:rPr>
              <a:t>match</a:t>
            </a: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 means to establish a certain </a:t>
            </a:r>
            <a:r>
              <a:rPr b="1" lang="de-DE" sz="2600" spc="-1" strike="noStrike">
                <a:solidFill>
                  <a:srgbClr val="000000"/>
                </a:solidFill>
                <a:latin typeface="Verdana"/>
              </a:rPr>
              <a:t>relationship</a:t>
            </a: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 between these </a:t>
            </a:r>
            <a:r>
              <a:rPr b="1" lang="de-DE" sz="26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Verdana"/>
              </a:rPr>
              <a:t>Simple and intuitive way to see the worl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WS Discovery: Modelling Ib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Verdana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300" spc="-1" strike="noStrike">
                <a:solidFill>
                  <a:srgbClr val="000000"/>
                </a:solidFill>
                <a:latin typeface="Verdana"/>
              </a:rPr>
              <a:t>Intersection</a:t>
            </a:r>
            <a:r>
              <a:rPr b="0" i="1" lang="de-DE" sz="2300" spc="-1" strike="noStrike">
                <a:solidFill>
                  <a:srgbClr val="000000"/>
                </a:solidFill>
                <a:latin typeface="Verdana"/>
              </a:rPr>
              <a:t>: G </a:t>
            </a:r>
            <a:r>
              <a:rPr b="0" i="1" lang="de-DE" sz="2300" spc="-1" strike="noStrike">
                <a:solidFill>
                  <a:srgbClr val="000000"/>
                </a:solidFill>
                <a:latin typeface="SymbolPS"/>
                <a:ea typeface="SymbolPS"/>
              </a:rPr>
              <a:t></a:t>
            </a:r>
            <a:r>
              <a:rPr b="0" i="1" lang="de-DE" sz="2300" spc="-1" strike="noStrike">
                <a:solidFill>
                  <a:srgbClr val="000000"/>
                </a:solidFill>
                <a:latin typeface="Verdana"/>
              </a:rPr>
              <a:t> WS (weak contribution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300" spc="-1" strike="noStrike">
                <a:solidFill>
                  <a:srgbClr val="000000"/>
                </a:solidFill>
                <a:latin typeface="Verdana"/>
              </a:rPr>
              <a:t>Subsumes</a:t>
            </a:r>
            <a:r>
              <a:rPr b="0" i="1" lang="de-DE" sz="2300" spc="-1" strike="noStrike">
                <a:solidFill>
                  <a:srgbClr val="000000"/>
                </a:solidFill>
                <a:latin typeface="Verdana"/>
              </a:rPr>
              <a:t>: G </a:t>
            </a:r>
            <a:r>
              <a:rPr b="0" i="1" lang="de-DE" sz="2300" spc="-1" strike="noStrike">
                <a:solidFill>
                  <a:srgbClr val="000000"/>
                </a:solidFill>
                <a:latin typeface="SymbolPS"/>
                <a:ea typeface="SymbolPS"/>
              </a:rPr>
              <a:t></a:t>
            </a:r>
            <a:r>
              <a:rPr b="0" i="1" lang="de-DE" sz="2300" spc="-1" strike="noStrike">
                <a:solidFill>
                  <a:srgbClr val="000000"/>
                </a:solidFill>
                <a:latin typeface="Verdana"/>
              </a:rPr>
              <a:t> WS (strong contribution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300" spc="-1" strike="noStrike">
                <a:solidFill>
                  <a:srgbClr val="000000"/>
                </a:solidFill>
                <a:latin typeface="Verdana"/>
              </a:rPr>
              <a:t>Plugin</a:t>
            </a:r>
            <a:r>
              <a:rPr b="0" i="1" lang="de-DE" sz="2300" spc="-1" strike="noStrike">
                <a:solidFill>
                  <a:srgbClr val="000000"/>
                </a:solidFill>
                <a:latin typeface="Verdana"/>
              </a:rPr>
              <a:t>: G </a:t>
            </a:r>
            <a:r>
              <a:rPr b="0" i="1" lang="de-DE" sz="2300" spc="-1" strike="noStrike">
                <a:solidFill>
                  <a:srgbClr val="000000"/>
                </a:solidFill>
                <a:latin typeface="SymbolPS"/>
                <a:ea typeface="SymbolPS"/>
              </a:rPr>
              <a:t></a:t>
            </a:r>
            <a:r>
              <a:rPr b="0" i="1" lang="de-DE" sz="2300" spc="-1" strike="noStrike">
                <a:solidFill>
                  <a:srgbClr val="000000"/>
                </a:solidFill>
                <a:latin typeface="Verdana"/>
              </a:rPr>
              <a:t> WS (coverage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300" spc="-1" strike="noStrike">
                <a:solidFill>
                  <a:srgbClr val="000000"/>
                </a:solidFill>
                <a:latin typeface="Verdana"/>
              </a:rPr>
              <a:t>Equality</a:t>
            </a:r>
            <a:r>
              <a:rPr b="0" i="1" lang="de-DE" sz="2300" spc="-1" strike="noStrike">
                <a:solidFill>
                  <a:srgbClr val="000000"/>
                </a:solidFill>
                <a:latin typeface="Verdana"/>
              </a:rPr>
              <a:t>: G = WS (exact match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47640" y="4221000"/>
            <a:ext cx="5616720" cy="1656000"/>
            <a:chOff x="1547640" y="4221000"/>
            <a:chExt cx="5616720" cy="1656000"/>
          </a:xfrm>
        </p:grpSpPr>
        <p:sp>
          <p:nvSpPr>
            <p:cNvPr id="99" name=""/>
            <p:cNvSpPr/>
            <p:nvPr/>
          </p:nvSpPr>
          <p:spPr>
            <a:xfrm>
              <a:off x="1547640" y="4365720"/>
              <a:ext cx="2160720" cy="13683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o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74920" y="4221000"/>
              <a:ext cx="2089440" cy="1656000"/>
            </a:xfrm>
            <a:prstGeom prst="hexagon">
              <a:avLst>
                <a:gd name="adj" fmla="val 31543"/>
                <a:gd name="vf" fmla="val 11547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63640" y="4797360"/>
              <a:ext cx="1727280" cy="486000"/>
            </a:xfrm>
            <a:prstGeom prst="leftRightArrow">
              <a:avLst>
                <a:gd name="adj1" fmla="val 50000"/>
                <a:gd name="adj2" fmla="val 70752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1640" y="4292640"/>
              <a:ext cx="360360" cy="1557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PS"/>
                  <a:ea typeface="SymbolPS"/>
                </a:rPr>
                <a:t>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PS"/>
                  <a:ea typeface="SymbolPS"/>
                </a:rPr>
                <a:t>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PS"/>
                  <a:ea typeface="SymbolPS"/>
                </a:rPr>
                <a:t>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WS Discovery: Modelling I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Verdana"/>
              </a:rPr>
              <a:t>Extended DL-Style Model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cc0000"/>
                </a:solidFill>
                <a:latin typeface="Verdana"/>
              </a:rPr>
              <a:t>The world is understood as sets of th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Goal = Set of items ; WS = Set of ite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Match means presence a certain relationship between these se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Intersection, Plugin, Subsumes, Equali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200" spc="-1" strike="noStrike">
                <a:solidFill>
                  <a:srgbClr val="336699"/>
                </a:solidFill>
                <a:latin typeface="Verdana"/>
              </a:rPr>
              <a:t>Now:</a:t>
            </a:r>
            <a:r>
              <a:rPr b="0" i="1" lang="de-DE" sz="2200" spc="-1" strike="noStrike">
                <a:solidFill>
                  <a:srgbClr val="336699"/>
                </a:solidFill>
                <a:latin typeface="Verdana"/>
              </a:rPr>
              <a:t> The language for defining these sets is very rich (unlike common DL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21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2100" spc="-1" strike="noStrike">
                <a:solidFill>
                  <a:srgbClr val="000000"/>
                </a:solidFill>
                <a:latin typeface="CourierPS"/>
              </a:rPr>
              <a:t>goal(x) </a:t>
            </a:r>
            <a:r>
              <a:rPr b="1" lang="de-DE" sz="2100" spc="-1" strike="noStrike">
                <a:solidFill>
                  <a:srgbClr val="000000"/>
                </a:solidFill>
                <a:latin typeface="SymbolPS"/>
                <a:ea typeface="SymbolPS"/>
              </a:rPr>
              <a:t></a:t>
            </a:r>
            <a:r>
              <a:rPr b="1" lang="de-DE" sz="2100" spc="-1" strike="noStrike">
                <a:solidFill>
                  <a:srgbClr val="000000"/>
                </a:solidFill>
                <a:latin typeface="CourierPS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SymbolPS"/>
                <a:ea typeface="SymbolPS"/>
              </a:rPr>
              <a:t></a:t>
            </a:r>
            <a:r>
              <a:rPr b="1" lang="de-DE" sz="2100" spc="-1" strike="noStrike">
                <a:solidFill>
                  <a:srgbClr val="000000"/>
                </a:solidFill>
                <a:latin typeface="CourierPS"/>
              </a:rPr>
              <a:t>(x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CourierPS"/>
              </a:rPr>
              <a:t>	</a:t>
            </a:r>
            <a:r>
              <a:rPr b="1" lang="de-DE" sz="2100" spc="-1" strike="noStrike">
                <a:solidFill>
                  <a:srgbClr val="000000"/>
                </a:solidFill>
                <a:latin typeface="CourierPS"/>
              </a:rPr>
              <a:t>	</a:t>
            </a:r>
            <a:r>
              <a:rPr b="1" lang="de-DE" sz="2100" spc="-1" strike="noStrike">
                <a:solidFill>
                  <a:srgbClr val="000000"/>
                </a:solidFill>
                <a:latin typeface="CourierPS"/>
              </a:rPr>
              <a:t>	</a:t>
            </a:r>
            <a:r>
              <a:rPr b="1" lang="de-DE" sz="2100" spc="-1" strike="noStrike">
                <a:solidFill>
                  <a:srgbClr val="000000"/>
                </a:solidFill>
                <a:latin typeface="CourierPS"/>
              </a:rPr>
              <a:t>ws(x) </a:t>
            </a:r>
            <a:r>
              <a:rPr b="1" lang="de-DE" sz="2100" spc="-1" strike="noStrike">
                <a:solidFill>
                  <a:srgbClr val="000000"/>
                </a:solidFill>
                <a:latin typeface="SymbolPS"/>
                <a:ea typeface="SymbolPS"/>
              </a:rPr>
              <a:t></a:t>
            </a:r>
            <a:r>
              <a:rPr b="1" lang="de-DE" sz="2100" spc="-1" strike="noStrike">
                <a:solidFill>
                  <a:srgbClr val="000000"/>
                </a:solidFill>
                <a:latin typeface="CourierPS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SymbolPS"/>
                <a:ea typeface="SymbolPS"/>
              </a:rPr>
              <a:t></a:t>
            </a:r>
            <a:r>
              <a:rPr b="1" lang="de-DE" sz="2100" spc="-1" strike="noStrike">
                <a:solidFill>
                  <a:srgbClr val="000000"/>
                </a:solidFill>
                <a:latin typeface="CourierPS"/>
              </a:rPr>
              <a:t>(x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CourierPS"/>
              </a:rPr>
              <a:t>where </a:t>
            </a:r>
            <a:r>
              <a:rPr b="0" lang="de-DE" sz="1800" spc="-1" strike="noStrike">
                <a:solidFill>
                  <a:srgbClr val="336699"/>
                </a:solidFill>
                <a:latin typeface="SymbolPS"/>
                <a:ea typeface="SymbolPS"/>
              </a:rPr>
              <a:t></a:t>
            </a:r>
            <a:r>
              <a:rPr b="0" lang="de-DE" sz="1800" spc="-1" strike="noStrike">
                <a:solidFill>
                  <a:srgbClr val="336699"/>
                </a:solidFill>
                <a:latin typeface="CourierPS"/>
              </a:rPr>
              <a:t>, </a:t>
            </a:r>
            <a:r>
              <a:rPr b="0" lang="de-DE" sz="1800" spc="-1" strike="noStrike">
                <a:solidFill>
                  <a:srgbClr val="336699"/>
                </a:solidFill>
                <a:latin typeface="SymbolPS"/>
                <a:ea typeface="SymbolPS"/>
              </a:rPr>
              <a:t></a:t>
            </a:r>
            <a:r>
              <a:rPr b="0" lang="de-DE" sz="1800" spc="-1" strike="noStrike">
                <a:solidFill>
                  <a:srgbClr val="336699"/>
                </a:solidFill>
                <a:latin typeface="CourierPS"/>
              </a:rPr>
              <a:t> are </a:t>
            </a:r>
            <a:r>
              <a:rPr b="1" lang="de-DE" sz="1800" spc="-1" strike="noStrike">
                <a:solidFill>
                  <a:srgbClr val="336699"/>
                </a:solidFill>
                <a:latin typeface="CourierPS"/>
              </a:rPr>
              <a:t>arbitrary WSML-FOL</a:t>
            </a:r>
            <a:r>
              <a:rPr b="0" i="1" lang="de-DE" sz="1800" spc="-1" strike="noStrike">
                <a:solidFill>
                  <a:srgbClr val="336699"/>
                </a:solidFill>
                <a:latin typeface="CourierPS"/>
              </a:rPr>
              <a:t> </a:t>
            </a:r>
            <a:r>
              <a:rPr b="0" lang="de-DE" sz="1800" spc="-1" strike="noStrike">
                <a:solidFill>
                  <a:srgbClr val="336699"/>
                </a:solidFill>
                <a:latin typeface="CourierPS"/>
              </a:rPr>
              <a:t>formul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336699"/>
                </a:solidFill>
                <a:latin typeface="Verdana"/>
              </a:rPr>
              <a:t>e.g. Plugin-Match:  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forAll x (goal(x)</a:t>
            </a:r>
            <a:r>
              <a:rPr b="0" lang="de-DE" sz="2100" spc="-1" strike="noStrike">
                <a:solidFill>
                  <a:srgbClr val="000000"/>
                </a:solidFill>
                <a:latin typeface="SymbolPS"/>
                <a:ea typeface="SymbolPS"/>
              </a:rPr>
              <a:t>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 ws(x)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WS Discovery: Modelling II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752120"/>
            <a:ext cx="8028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Verdana"/>
              </a:rPr>
              <a:t>EDL-style-Modelling with Rel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cc0000"/>
                </a:solidFill>
                <a:latin typeface="Verdana"/>
              </a:rPr>
              <a:t>The world is understood as sets of th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Goal = Set of items; WS has inputs </a:t>
            </a:r>
            <a:r>
              <a:rPr b="0" i="1" lang="de-DE" sz="2200" spc="-1" strike="noStrike">
                <a:solidFill>
                  <a:srgbClr val="000000"/>
                </a:solidFill>
                <a:latin typeface="Verdana"/>
              </a:rPr>
              <a:t>i1, …, 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WS delivers a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set of items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for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each tuple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input values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de-DE" sz="2200" spc="-1" strike="noStrike">
                <a:solidFill>
                  <a:srgbClr val="000000"/>
                </a:solidFill>
                <a:latin typeface="Verdana"/>
              </a:rPr>
              <a:t>i1, …, iN (WS = relation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Matching means establishing a certain relationship between these sets </a:t>
            </a:r>
            <a:r>
              <a:rPr b="0" lang="de-DE" sz="2200" spc="-1" strike="noStrike">
                <a:solidFill>
                  <a:srgbClr val="cc0000"/>
                </a:solidFill>
                <a:latin typeface="Verdana"/>
              </a:rPr>
              <a:t>wrt. (hypoth.) executions of a web 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336699"/>
                </a:solidFill>
                <a:latin typeface="Verdana"/>
              </a:rPr>
              <a:t>Now: Match can refer to (hypothetical) execution of a web 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99"/>
                </a:solidFill>
                <a:latin typeface="CourierPS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PS"/>
              </a:rPr>
              <a:t>goal(x) </a:t>
            </a:r>
            <a:r>
              <a:rPr b="1" lang="de-DE" sz="1800" spc="-1" strike="noStrike">
                <a:solidFill>
                  <a:srgbClr val="000000"/>
                </a:solidFill>
                <a:latin typeface="SymbolPS"/>
                <a:ea typeface="SymbolPS"/>
              </a:rPr>
              <a:t></a:t>
            </a:r>
            <a:r>
              <a:rPr b="1" lang="de-DE" sz="1800" spc="-1" strike="noStrike">
                <a:solidFill>
                  <a:srgbClr val="000000"/>
                </a:solidFill>
                <a:latin typeface="CourierP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SymbolPS"/>
                <a:ea typeface="SymbolPS"/>
              </a:rPr>
              <a:t></a:t>
            </a:r>
            <a:r>
              <a:rPr b="1" lang="de-DE" sz="1800" spc="-1" strike="noStrike">
                <a:solidFill>
                  <a:srgbClr val="000000"/>
                </a:solidFill>
                <a:latin typeface="CourierPS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PS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PS"/>
              </a:rPr>
              <a:t>ws(x, i1,…, iN) </a:t>
            </a:r>
            <a:r>
              <a:rPr b="1" lang="de-DE" sz="1800" spc="-1" strike="noStrike">
                <a:solidFill>
                  <a:srgbClr val="000000"/>
                </a:solidFill>
                <a:latin typeface="SymbolPS"/>
                <a:ea typeface="SymbolPS"/>
              </a:rPr>
              <a:t></a:t>
            </a:r>
            <a:r>
              <a:rPr b="1" lang="de-DE" sz="1800" spc="-1" strike="noStrike">
                <a:solidFill>
                  <a:srgbClr val="000000"/>
                </a:solidFill>
                <a:latin typeface="CourierP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SymbolPS"/>
                <a:ea typeface="SymbolPS"/>
              </a:rPr>
              <a:t></a:t>
            </a:r>
            <a:r>
              <a:rPr b="1" lang="de-DE" sz="1800" spc="-1" strike="noStrike" baseline="30000">
                <a:solidFill>
                  <a:srgbClr val="000000"/>
                </a:solidFill>
                <a:latin typeface="CourierPS"/>
              </a:rPr>
              <a:t>pre</a:t>
            </a:r>
            <a:r>
              <a:rPr b="1" lang="de-DE" sz="1800" spc="-1" strike="noStrike">
                <a:solidFill>
                  <a:srgbClr val="000000"/>
                </a:solidFill>
                <a:latin typeface="CourierPS"/>
              </a:rPr>
              <a:t>(i1,…, iN) </a:t>
            </a:r>
            <a:r>
              <a:rPr b="1" lang="de-DE" sz="1800" spc="-1" strike="noStrike">
                <a:solidFill>
                  <a:srgbClr val="000000"/>
                </a:solidFill>
                <a:latin typeface="SymbolPS"/>
                <a:ea typeface="SymbolPS"/>
              </a:rPr>
              <a:t></a:t>
            </a:r>
            <a:r>
              <a:rPr b="1" lang="de-DE" sz="1800" spc="-1" strike="noStrike">
                <a:solidFill>
                  <a:srgbClr val="000000"/>
                </a:solidFill>
                <a:latin typeface="CourierP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PS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PS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PS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PS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CourierPS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SymbolPS"/>
                <a:ea typeface="SymbolPS"/>
              </a:rPr>
              <a:t></a:t>
            </a:r>
            <a:r>
              <a:rPr b="1" lang="de-DE" sz="1800" spc="-1" strike="noStrike" baseline="30000">
                <a:solidFill>
                  <a:srgbClr val="000000"/>
                </a:solidFill>
                <a:latin typeface="CourierPS"/>
              </a:rPr>
              <a:t>post</a:t>
            </a:r>
            <a:r>
              <a:rPr b="1" lang="de-DE" sz="1800" spc="-1" strike="noStrike">
                <a:solidFill>
                  <a:srgbClr val="000000"/>
                </a:solidFill>
                <a:latin typeface="CourierPS"/>
              </a:rPr>
              <a:t>(i1,…, iN,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CourierPS"/>
              </a:rPr>
              <a:t>where </a:t>
            </a:r>
            <a:r>
              <a:rPr b="1" lang="de-DE" sz="1800" spc="-1" strike="noStrike">
                <a:solidFill>
                  <a:srgbClr val="336699"/>
                </a:solidFill>
                <a:latin typeface="SymbolPS"/>
                <a:ea typeface="SymbolPS"/>
              </a:rPr>
              <a:t></a:t>
            </a:r>
            <a:r>
              <a:rPr b="1" lang="de-DE" sz="1800" spc="-1" strike="noStrike">
                <a:solidFill>
                  <a:srgbClr val="336699"/>
                </a:solidFill>
                <a:latin typeface="CourierPS"/>
              </a:rPr>
              <a:t>, </a:t>
            </a:r>
            <a:r>
              <a:rPr b="1" lang="de-DE" sz="1800" spc="-1" strike="noStrike">
                <a:solidFill>
                  <a:srgbClr val="336699"/>
                </a:solidFill>
                <a:latin typeface="SymbolPS"/>
                <a:ea typeface="SymbolPS"/>
              </a:rPr>
              <a:t></a:t>
            </a:r>
            <a:r>
              <a:rPr b="1" lang="de-DE" sz="1800" spc="-1" strike="noStrike" baseline="30000">
                <a:solidFill>
                  <a:srgbClr val="336699"/>
                </a:solidFill>
                <a:latin typeface="CourierPS"/>
              </a:rPr>
              <a:t>pre, </a:t>
            </a:r>
            <a:r>
              <a:rPr b="1" lang="de-DE" sz="1800" spc="-1" strike="noStrike">
                <a:solidFill>
                  <a:srgbClr val="336699"/>
                </a:solidFill>
                <a:latin typeface="SymbolPS"/>
                <a:ea typeface="SymbolPS"/>
              </a:rPr>
              <a:t></a:t>
            </a:r>
            <a:r>
              <a:rPr b="1" lang="de-DE" sz="1800" spc="-1" strike="noStrike" baseline="30000">
                <a:solidFill>
                  <a:srgbClr val="336699"/>
                </a:solidFill>
                <a:latin typeface="CourierPS"/>
              </a:rPr>
              <a:t>post</a:t>
            </a:r>
            <a:r>
              <a:rPr b="1" lang="de-DE" sz="1800" spc="-1" strike="noStrike">
                <a:solidFill>
                  <a:srgbClr val="336699"/>
                </a:solidFill>
                <a:latin typeface="CourierPS"/>
              </a:rPr>
              <a:t> are </a:t>
            </a:r>
            <a:r>
              <a:rPr b="1" i="1" lang="de-DE" sz="1800" spc="-1" strike="noStrike">
                <a:solidFill>
                  <a:srgbClr val="336699"/>
                </a:solidFill>
                <a:latin typeface="CourierPS"/>
              </a:rPr>
              <a:t>arbitrary WSML-FOL </a:t>
            </a:r>
            <a:r>
              <a:rPr b="1" lang="de-DE" sz="1800" spc="-1" strike="noStrike">
                <a:solidFill>
                  <a:srgbClr val="336699"/>
                </a:solidFill>
                <a:latin typeface="CourierPS"/>
              </a:rPr>
              <a:t>formul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067280" y="1916280"/>
            <a:ext cx="2305080" cy="34574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Verdana"/>
              </a:rPr>
              <a:t>WS Discovery: Modelling IIIb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2565360"/>
            <a:ext cx="2160360" cy="13683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11640" y="2421000"/>
            <a:ext cx="2089080" cy="1655640"/>
          </a:xfrm>
          <a:prstGeom prst="hexagon">
            <a:avLst>
              <a:gd name="adj" fmla="val 31545"/>
              <a:gd name="vf" fmla="val 11547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S(i1,…,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2997360"/>
            <a:ext cx="1727280" cy="485640"/>
          </a:xfrm>
          <a:prstGeom prst="leftRightArrow">
            <a:avLst>
              <a:gd name="adj1" fmla="val 50000"/>
              <a:gd name="adj2" fmla="val 7080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2492280"/>
            <a:ext cx="360360" cy="1557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PS"/>
                <a:ea typeface="SymbolPS"/>
              </a:rPr>
              <a:t>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PS"/>
                <a:ea typeface="SymbolPS"/>
              </a:rPr>
              <a:t>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PS"/>
                <a:ea typeface="SymbolPS"/>
              </a:rPr>
              <a:t>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6000" y="3284640"/>
            <a:ext cx="215640" cy="215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0720" y="25653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1,…,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4" idx="2"/>
            <a:endCxn id="111" idx="0"/>
          </p:cNvCxnSpPr>
          <p:nvPr/>
        </p:nvCxnSpPr>
        <p:spPr>
          <a:xfrm rot="10800000">
            <a:off x="5255640" y="2420280"/>
            <a:ext cx="1980360" cy="972360"/>
          </a:xfrm>
          <a:prstGeom prst="curvedConnector5">
            <a:avLst>
              <a:gd name="adj1" fmla="val 23563"/>
              <a:gd name="adj2" fmla="val 61740"/>
              <a:gd name="adj3" fmla="val 2356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7431120" y="34290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iti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28040" y="50846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ost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9:02:33Z</dcterms:created>
  <dc:creator> </dc:creator>
  <dc:description/>
  <dc:language>en-US</dc:language>
  <cp:lastModifiedBy> </cp:lastModifiedBy>
  <dcterms:modified xsi:type="dcterms:W3CDTF">2004-09-29T07:33:36Z</dcterms:modified>
  <cp:revision>69</cp:revision>
  <dc:subject/>
  <dc:title>Folie 1</dc:title>
</cp:coreProperties>
</file>