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748008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28720" y="3397320"/>
            <a:ext cx="748008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640" y="132084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8720" y="339732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1640" y="339732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240840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8080" y="1320840"/>
            <a:ext cx="240840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87080" y="1320840"/>
            <a:ext cx="240840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28720" y="3397320"/>
            <a:ext cx="240840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8080" y="3397320"/>
            <a:ext cx="240840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87080" y="3397320"/>
            <a:ext cx="240840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28720" y="1320840"/>
            <a:ext cx="7480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7480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36500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1640" y="1320840"/>
            <a:ext cx="36500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3040" y="266400"/>
            <a:ext cx="7810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320840"/>
            <a:ext cx="36500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28720" y="339732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36500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640" y="132084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1640" y="339732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3040" y="249840"/>
            <a:ext cx="7810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640" y="1320840"/>
            <a:ext cx="365004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8720" y="3397320"/>
            <a:ext cx="7480080" cy="18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0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Garamond Bold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1320840"/>
            <a:ext cx="7480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Garamond Bold"/>
              </a:rPr>
              <a:t>IRS-III/WSMO differences</a:t>
            </a: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7480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21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Underlying language OCM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01680" indent="-301680">
              <a:spcBef>
                <a:spcPts val="21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Goals have inputs and output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01680" indent="-301680">
              <a:spcBef>
                <a:spcPts val="21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IRS-III broker finds applicable web services via mediator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d mediator within WS capabilit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diator source = go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1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Web services have inputs and outputs ‘inherited’ from goal descript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01680" indent="-301680">
              <a:spcBef>
                <a:spcPts val="21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Web service selected via assumption (in capability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0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Garamond Bold"/>
              </a:rPr>
              <a:t>Additional Mediators</a:t>
            </a:r>
            <a:endParaRPr b="1" lang="en-US" sz="32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7480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GW-Mediato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s goal inputs -&gt; web service inpu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G-Mediator transforms web service output for go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GInv-GInv-Mediato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tes between two goal inv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230480" y="3537000"/>
            <a:ext cx="696888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RS-III Demo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365200" y="684360"/>
            <a:ext cx="5031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Garamond Bold"/>
              </a:rPr>
              <a:t>SWS Creation &amp; Usage Steps</a:t>
            </a: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7480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reate a goal description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e.g. exchange-rate-go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 input and output ro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de role type and soap bin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reate a wg-mediator description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rce = go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sibly add a mediation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reate a web service descrip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d-mediator of WS capability = wg-mediator abo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Publish code or web service against web service descrip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Invoke web service by ‘achieve goal’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Garamond Bold"/>
              </a:rPr>
              <a:t>Defining a Mediation Service</a:t>
            </a: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8720" y="1320840"/>
            <a:ext cx="7480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efine a wg-mediato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ource = goa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Mediation-service = goal for mediation servic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Mediation goal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tion goal input roles are a subset of goal input ro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efine mediator and WS as norma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680" y="266400"/>
            <a:ext cx="9277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Garamond Bold"/>
              </a:rPr>
              <a:t>Exchange Rate Example (goal &amp; mediator)</a:t>
            </a:r>
            <a:endParaRPr b="1" lang="en-US" sz="32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20480"/>
            <a:ext cx="82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change-rate-goal (goal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-input-role :value has_source_currency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value has_target_currency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-output-role :value has_exchange_rat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_source_currency :type currency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_target_currency :type currency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_exchange_rate :type positive-number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change-rate-mediator (gw-mediator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-source-component :value exchange-rate-goa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-mediation-service :value exchange-rate-mediation-goa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7520" y="266400"/>
            <a:ext cx="9277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Garamond Bold"/>
              </a:rPr>
              <a:t>Exchange Rate Example (WS &amp; capability)</a:t>
            </a:r>
            <a:endParaRPr b="1" lang="en-US" sz="32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3000" y="1522080"/>
            <a:ext cx="903312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uropean-exchange-rate-web-service (web-service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-capability :value european-exchange-rate-capability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-interface :value european-exchange-rate-web-service-interfac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exchange-rate-capability (capability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used-mediator :value exchange-rate-mediator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european-exchange-rate-capability (exchange-rate-capability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has-assumption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:valu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(kappa (?goal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(and (european-currency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(wsmo-role-value ?goal 'has_source_currency)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(european-currency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(wsmo-role-value ?goal 'has_target_currency)))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0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Garamond Bold"/>
              </a:rPr>
              <a:t>Exchange Rate Mediation Service Goal</a:t>
            </a:r>
            <a:endParaRPr b="1" lang="en-US" sz="32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1800" y="1568520"/>
            <a:ext cx="74800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change-rate-mediation-goal (goal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-input-role :value has_source_currency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-output-role :value has_mediated_currency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_source_currency :type currency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_mediated_currency :type fully-named-currency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Garamond Bold"/>
              </a:rPr>
              <a:t>Goal Based Invocation</a:t>
            </a: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70000" y="2225520"/>
            <a:ext cx="1140840" cy="1044000"/>
            <a:chOff x="270000" y="2225520"/>
            <a:chExt cx="1140840" cy="104400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270000" y="2225520"/>
              <a:ext cx="114084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20760" y="2962440"/>
              <a:ext cx="104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cc"/>
                  </a:solidFill>
                  <a:latin typeface="Arial"/>
                </a:rPr>
                <a:t>Invocation 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146320" y="1979640"/>
            <a:ext cx="341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Instantiate Goal Description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Exchange-rate-goal 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Has-source-currency: us-dollars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Has-target-currency: pound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83640" y="1979640"/>
            <a:ext cx="362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Web Service Discovery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European-exchange-rate-ws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Non-european-exchange-rate-ws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European-bank-exchange-rate-ws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20000" y="156060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Goal -&gt; WG Mediator -&gt; WS/Capability/Used-mediator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8480" y="4799160"/>
            <a:ext cx="270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Web service selection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European-exchange-rat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13280" y="4773600"/>
            <a:ext cx="243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Mediate input values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$’ -&gt; us-dollar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3960" y="412596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WS -&gt; Capability -&gt; Assumption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45000" y="43671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Mediation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21720" y="4697280"/>
            <a:ext cx="27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Invoke selected </a:t>
            </a:r>
            <a:br>
              <a:rPr sz="1800"/>
            </a:b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web servic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European-exchange-rat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78720" y="43164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0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Garamond Bold"/>
              </a:rPr>
              <a:t>Summary</a:t>
            </a:r>
            <a:endParaRPr b="1" lang="en-US" sz="32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8360" y="1320840"/>
            <a:ext cx="746604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IRS-III featur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SMO compatible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ins OWL-S im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e click publis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ability based inv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IRS-III mediator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S ‘inherit’ input/output roles from go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diation service = go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Opennes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S discovery, WS selection, input value mediation, orchestration are S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Already used by attendees in 2 tutorials and will be shown at tutorial at ISWC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744120" y="2481120"/>
            <a:ext cx="842508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216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IRS-III: A Platform and Infrastructure for Creating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WSMO-based Semantic Web Servic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216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1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John Domingue, Liliana Cabral,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arshad Hakimpour,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nilson Sell, and Enrico Motta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265480" y="422280"/>
            <a:ext cx="5029200" cy="161928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0080" y="6491160"/>
            <a:ext cx="47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  <a:ea typeface="Arial"/>
              </a:rPr>
              <a:t>Presentation @ WSMO Workshop, September 2004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469880" y="1472760"/>
            <a:ext cx="697248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 Internet Reasoning Service is an infrastructure for publishing, locating, executing and composing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semantic web services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, organized according to the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WSMO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framework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Garamond Bold"/>
              </a:rPr>
              <a:t>Design Principles</a:t>
            </a: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8640" y="1434600"/>
            <a:ext cx="870912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patible with WSMO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ight integr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pe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spectabl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ackward compatibl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WL-S impor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search platform for semantic web servic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Garamond Bold"/>
              </a:rPr>
              <a:t>Features of IRS-III (1/2)</a:t>
            </a:r>
            <a:endParaRPr b="1" lang="en-US" sz="44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63520" y="1407960"/>
            <a:ext cx="69724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ased on Soap messaging standard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1500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ides Java API for client applicat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ides built-in brokering and service discovery suppor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ides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apability-centred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service invoc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Garamond Bold"/>
              </a:rPr>
              <a:t>Features of IRS-3 (2/2)</a:t>
            </a:r>
            <a:endParaRPr b="1" lang="en-US" sz="44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4960" y="1294920"/>
            <a:ext cx="831060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ublishing support for variety of platform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, Lisp, Web Applications, Java Web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ables publication of ‘standard code’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 clever wrappers automatically, which turn code into web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-click publishing of web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tegrated with standard Web Services world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shed code appears a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mantic web service to IR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Ordinary’ web service to web service world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63880" indent="-263880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RS-III components are WSMO services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 dis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 s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ting input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988920" y="1603440"/>
            <a:ext cx="7929360" cy="4582080"/>
            <a:chOff x="988920" y="1603440"/>
            <a:chExt cx="7929360" cy="4582080"/>
          </a:xfrm>
        </p:grpSpPr>
        <p:grpSp>
          <p:nvGrpSpPr>
            <p:cNvPr id="49" name=""/>
            <p:cNvGrpSpPr/>
            <p:nvPr/>
          </p:nvGrpSpPr>
          <p:grpSpPr>
            <a:xfrm>
              <a:off x="988920" y="1603440"/>
              <a:ext cx="3872520" cy="3492360"/>
              <a:chOff x="988920" y="1603440"/>
              <a:chExt cx="3872520" cy="3492360"/>
            </a:xfrm>
          </p:grpSpPr>
          <p:sp>
            <p:nvSpPr>
              <p:cNvPr id="50" name=""/>
              <p:cNvSpPr/>
              <p:nvPr/>
            </p:nvSpPr>
            <p:spPr>
              <a:xfrm>
                <a:off x="988920" y="1603440"/>
                <a:ext cx="3872520" cy="3492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54160" y="1755720"/>
                <a:ext cx="231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RS-3 Server</a:t>
                </a:r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19040" y="2441520"/>
                <a:ext cx="2000160" cy="50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cc"/>
                    </a:solidFill>
                    <a:latin typeface="Arial"/>
                  </a:rPr>
                  <a:t>Domain Models</a:t>
                </a:r>
                <a:endParaRPr b="0" lang="en-US" sz="1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19040" y="3127320"/>
                <a:ext cx="3440880" cy="73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cc"/>
                    </a:solidFill>
                    <a:latin typeface="Arial"/>
                  </a:rPr>
                  <a:t>Web Service Specifications</a:t>
                </a:r>
                <a:br>
                  <a:rPr sz="1800"/>
                </a:br>
                <a:r>
                  <a:rPr b="1" i="1" lang="en-US" sz="1800" spc="-1" strike="noStrike">
                    <a:solidFill>
                      <a:srgbClr val="0000cc"/>
                    </a:solidFill>
                    <a:latin typeface="Arial"/>
                  </a:rPr>
                  <a:t>+ Registry of Implementors</a:t>
                </a:r>
                <a:endParaRPr b="0" lang="en-US" sz="1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19040" y="4168800"/>
                <a:ext cx="2742840" cy="74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cc"/>
                    </a:solidFill>
                    <a:latin typeface="Arial"/>
                  </a:rPr>
                  <a:t>Goal Specifications</a:t>
                </a:r>
                <a:br>
                  <a:rPr sz="1800"/>
                </a:br>
                <a:r>
                  <a:rPr b="1" i="1" lang="en-US" sz="1800" spc="-1" strike="noStrike">
                    <a:solidFill>
                      <a:srgbClr val="0000cc"/>
                    </a:solidFill>
                    <a:latin typeface="Arial"/>
                  </a:rPr>
                  <a:t>+ SOAP </a:t>
                </a:r>
                <a:r>
                  <a:rPr b="1" i="1" lang="en-GB" sz="1800" spc="-1" strike="noStrike">
                    <a:solidFill>
                      <a:srgbClr val="0000cc"/>
                    </a:solidFill>
                    <a:latin typeface="Arial"/>
                  </a:rPr>
                  <a:t>Binding</a:t>
                </a:r>
                <a:endParaRPr b="0" lang="en-US" sz="1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6436800" y="1952640"/>
              <a:ext cx="2457000" cy="45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IRS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Publisher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861800" y="2203560"/>
              <a:ext cx="1538640" cy="7999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837320" y="3041640"/>
              <a:ext cx="1562760" cy="3016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4854600" y="3704760"/>
              <a:ext cx="1609200" cy="1875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875480" y="4057200"/>
              <a:ext cx="1506240" cy="631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5422320" y="1733400"/>
              <a:ext cx="470880" cy="4229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4249440" y="3802680"/>
              <a:ext cx="2800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S      O     A       P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1960200" y="5105520"/>
              <a:ext cx="1928880" cy="1080000"/>
              <a:chOff x="1960200" y="5105520"/>
              <a:chExt cx="1928880" cy="1080000"/>
            </a:xfrm>
          </p:grpSpPr>
          <p:sp>
            <p:nvSpPr>
              <p:cNvPr id="63" name=""/>
              <p:cNvSpPr/>
              <p:nvPr/>
            </p:nvSpPr>
            <p:spPr>
              <a:xfrm>
                <a:off x="2112120" y="5725800"/>
                <a:ext cx="162108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IRS </a:t>
                </a: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</a:rPr>
                  <a:t>Client</a:t>
                </a:r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917800" y="5105520"/>
                <a:ext cx="13320" cy="61560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1960200" y="5265360"/>
                <a:ext cx="1928880" cy="368280"/>
                <a:chOff x="1960200" y="5265360"/>
                <a:chExt cx="1928880" cy="368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960200" y="5306400"/>
                  <a:ext cx="1928880" cy="25344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c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537640" y="5265360"/>
                  <a:ext cx="828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cc"/>
                      </a:solidFill>
                      <a:latin typeface="Arial"/>
                    </a:rPr>
                    <a:t>SOAP</a:t>
                  </a:r>
                  <a:endParaRPr b="0" lang="en-US" sz="1800" spc="-1" strike="noStrike">
                    <a:solidFill>
                      <a:srgbClr val="0000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" name=""/>
            <p:cNvSpPr/>
            <p:nvPr/>
          </p:nvSpPr>
          <p:spPr>
            <a:xfrm>
              <a:off x="6409080" y="2793960"/>
              <a:ext cx="2457720" cy="45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IRS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Publisher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5320" y="3635280"/>
              <a:ext cx="2457000" cy="45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IRS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Publisher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87120" y="4537080"/>
              <a:ext cx="2457720" cy="45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IRS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Publisher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60480" y="23893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Verdana"/>
                </a:rPr>
                <a:t>Lisp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10080" y="32400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Verdana"/>
                </a:rPr>
                <a:t>Java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99800" y="4102200"/>
              <a:ext cx="151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Verdana"/>
                </a:rPr>
                <a:t>Java WS</a:t>
              </a:r>
              <a:endParaRPr b="0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81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Garamond Bold"/>
              </a:rPr>
              <a:t>IRS-3 Framework</a:t>
            </a: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336920" y="2657520"/>
            <a:ext cx="5208840" cy="2889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9160" y="525132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LispWeb Server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7725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Garamond Bold"/>
              </a:rPr>
              <a:t>IRS-III Architecture</a:t>
            </a: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2913120"/>
            <a:ext cx="365436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34600" y="48798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RS-III Server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48480" y="3054240"/>
            <a:ext cx="1631880" cy="520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S Publishe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407360" y="3835440"/>
            <a:ext cx="1853640" cy="650880"/>
            <a:chOff x="7407360" y="3835440"/>
            <a:chExt cx="1853640" cy="650880"/>
          </a:xfrm>
        </p:grpSpPr>
        <p:sp>
          <p:nvSpPr>
            <p:cNvPr id="82" name=""/>
            <p:cNvSpPr/>
            <p:nvPr/>
          </p:nvSpPr>
          <p:spPr>
            <a:xfrm>
              <a:off x="7475760" y="3840480"/>
              <a:ext cx="1785240" cy="645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07360" y="3835440"/>
              <a:ext cx="9507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OCML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1920" y="4096080"/>
              <a:ext cx="1409040" cy="3070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SMO Library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340320" y="5781600"/>
            <a:ext cx="1793880" cy="307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WL(-S) Handler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83080" y="5927760"/>
            <a:ext cx="9144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066080" y="4462560"/>
            <a:ext cx="561960" cy="13255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0120" y="576900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cc"/>
                </a:solidFill>
                <a:latin typeface="Arial"/>
              </a:rPr>
              <a:t>OWL(-S)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70120" y="209520"/>
            <a:ext cx="2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80240" y="2874960"/>
            <a:ext cx="834480" cy="808560"/>
            <a:chOff x="480240" y="2874960"/>
            <a:chExt cx="834480" cy="80856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596880" y="2874960"/>
              <a:ext cx="52704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80240" y="337644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cc"/>
                  </a:solidFill>
                  <a:latin typeface="Arial"/>
                </a:rPr>
                <a:t>Browser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74040" y="5006880"/>
            <a:ext cx="1046520" cy="939240"/>
            <a:chOff x="374040" y="5006880"/>
            <a:chExt cx="1046520" cy="939240"/>
          </a:xfrm>
        </p:grpSpPr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558720" y="5006880"/>
              <a:ext cx="6775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74040" y="5425920"/>
              <a:ext cx="104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cc"/>
                  </a:solidFill>
                  <a:latin typeface="Arial"/>
                </a:rPr>
                <a:t>Invocation </a:t>
              </a:r>
              <a:br>
                <a:rPr sz="1400"/>
              </a:br>
              <a:r>
                <a:rPr b="0" i="1" lang="en-GB" sz="1400" spc="-1" strike="noStrike">
                  <a:solidFill>
                    <a:srgbClr val="0000cc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71160" y="3903840"/>
            <a:ext cx="1054080" cy="882000"/>
            <a:chOff x="371160" y="3903840"/>
            <a:chExt cx="1054080" cy="882000"/>
          </a:xfrm>
        </p:grpSpPr>
        <p:sp>
          <p:nvSpPr>
            <p:cNvPr id="97" name=""/>
            <p:cNvSpPr/>
            <p:nvPr/>
          </p:nvSpPr>
          <p:spPr>
            <a:xfrm>
              <a:off x="371160" y="4265640"/>
              <a:ext cx="105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cc"/>
                  </a:solidFill>
                  <a:latin typeface="Arial"/>
                </a:rPr>
                <a:t>Publishing </a:t>
              </a:r>
              <a:br>
                <a:rPr sz="1400"/>
              </a:br>
              <a:r>
                <a:rPr b="0" i="1" lang="en-GB" sz="1400" spc="-1" strike="noStrike">
                  <a:solidFill>
                    <a:srgbClr val="0000cc"/>
                  </a:solidFill>
                  <a:latin typeface="Arial"/>
                </a:rPr>
                <a:t>Clients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433440" y="3903840"/>
              <a:ext cx="838800" cy="39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 flipV="1">
            <a:off x="2368440" y="4309560"/>
            <a:ext cx="2327400" cy="117180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24160" y="3711600"/>
            <a:ext cx="2406600" cy="46980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43240" y="2039760"/>
            <a:ext cx="2341440" cy="198936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78200" y="3927600"/>
            <a:ext cx="824040" cy="459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AP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90960" y="2476440"/>
            <a:ext cx="507960" cy="3018600"/>
          </a:xfrm>
          <a:prstGeom prst="rect">
            <a:avLst/>
          </a:prstGeom>
          <a:solidFill>
            <a:srgbClr val="ddddd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cc"/>
                </a:solidFill>
                <a:latin typeface="Arial"/>
              </a:rPr>
              <a:t>SOAP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4960" y="4127400"/>
            <a:ext cx="4111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38800" y="1882800"/>
            <a:ext cx="256356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ublishing Platforms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079600" y="2211480"/>
            <a:ext cx="11160" cy="175896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106480" y="15796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cc"/>
                </a:solidFill>
                <a:latin typeface="Arial"/>
              </a:rPr>
              <a:t>Web Service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23400" y="19400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cc"/>
                </a:solidFill>
                <a:latin typeface="Arial"/>
              </a:rPr>
              <a:t>Java Code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13680" y="224316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cc"/>
                </a:solidFill>
                <a:latin typeface="Arial"/>
              </a:rPr>
              <a:t>Web Application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33920" y="3040200"/>
            <a:ext cx="900000" cy="368280"/>
          </a:xfrm>
          <a:prstGeom prst="rect">
            <a:avLst/>
          </a:prstGeom>
          <a:solidFill>
            <a:srgbClr val="ddddd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cc"/>
                </a:solidFill>
                <a:latin typeface="Arial"/>
              </a:rPr>
              <a:t>SOAP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78600" y="2055960"/>
            <a:ext cx="11509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86520" y="2157480"/>
            <a:ext cx="1120680" cy="24768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993000" y="1716120"/>
            <a:ext cx="1130400" cy="21888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867280" y="3168720"/>
            <a:ext cx="1288800" cy="1984320"/>
            <a:chOff x="5867280" y="3168720"/>
            <a:chExt cx="1288800" cy="1984320"/>
          </a:xfrm>
        </p:grpSpPr>
        <p:sp>
          <p:nvSpPr>
            <p:cNvPr id="115" name=""/>
            <p:cNvSpPr/>
            <p:nvPr/>
          </p:nvSpPr>
          <p:spPr>
            <a:xfrm>
              <a:off x="5867280" y="3168720"/>
              <a:ext cx="1288800" cy="198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63480" y="3209760"/>
              <a:ext cx="893880" cy="520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4880" y="3876840"/>
              <a:ext cx="992880" cy="520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sher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76000" y="4543560"/>
              <a:ext cx="1070640" cy="520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161120" y="4124160"/>
            <a:ext cx="31284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046160" y="1635120"/>
            <a:ext cx="1235880" cy="4480920"/>
            <a:chOff x="1046160" y="1635120"/>
            <a:chExt cx="1235880" cy="4480920"/>
          </a:xfrm>
        </p:grpSpPr>
        <p:sp>
          <p:nvSpPr>
            <p:cNvPr id="121" name=""/>
            <p:cNvSpPr/>
            <p:nvPr/>
          </p:nvSpPr>
          <p:spPr>
            <a:xfrm>
              <a:off x="1762920" y="1635120"/>
              <a:ext cx="519120" cy="448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J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v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a </a:t>
              </a:r>
              <a:endParaRPr b="0" lang="en-US" sz="32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P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cc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46160" y="1932120"/>
              <a:ext cx="671400" cy="45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4000" y="3119400"/>
              <a:ext cx="490320" cy="144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325520" y="4575240"/>
              <a:ext cx="414360" cy="46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208160" y="5802480"/>
              <a:ext cx="538200" cy="208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95280" y="2138400"/>
            <a:ext cx="355680" cy="2826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93760" y="3160800"/>
            <a:ext cx="473040" cy="2746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28760" y="4097160"/>
            <a:ext cx="357120" cy="18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274760" y="5145120"/>
            <a:ext cx="422280" cy="1015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9800" y="1763640"/>
            <a:ext cx="857160" cy="891360"/>
            <a:chOff x="469800" y="1763640"/>
            <a:chExt cx="857160" cy="891360"/>
          </a:xfrm>
        </p:grpSpPr>
        <p:graphicFrame>
          <p:nvGraphicFramePr>
            <p:cNvPr id="131" name=""/>
            <p:cNvGraphicFramePr/>
            <p:nvPr/>
          </p:nvGraphicFramePr>
          <p:xfrm>
            <a:off x="548280" y="1763640"/>
            <a:ext cx="701280" cy="64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280" y="1763640"/>
                      <a:ext cx="70128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469800" y="234792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cc"/>
                  </a:solidFill>
                  <a:latin typeface="Arial"/>
                </a:rPr>
                <a:t>WSMX</a:t>
              </a:r>
              <a:endParaRPr b="0" lang="en-US" sz="1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419800" y="5392800"/>
            <a:ext cx="118404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58920"/>
            <a:ext cx="967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Garamond Bold"/>
              </a:rPr>
              <a:t>Publishing Platform  Architecture</a:t>
            </a:r>
            <a:endParaRPr b="1" lang="en-US" sz="3600" spc="-1" strike="noStrike">
              <a:solidFill>
                <a:srgbClr val="0000cc"/>
              </a:solidFill>
              <a:latin typeface="AGaramond Bold"/>
            </a:endParaRPr>
          </a:p>
        </p:txBody>
      </p:sp>
      <p:sp>
        <p:nvSpPr>
          <p:cNvPr id="136" name=""/>
          <p:cNvSpPr/>
          <p:nvPr/>
        </p:nvSpPr>
        <p:spPr>
          <a:xfrm>
            <a:off x="3639960" y="2058840"/>
            <a:ext cx="6086520" cy="2556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00560" y="2198520"/>
            <a:ext cx="4152960" cy="208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33280" y="3975120"/>
            <a:ext cx="27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Garamond Bold"/>
              </a:rPr>
              <a:t>IRS-III Publishing Platfor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7760" y="426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AGaramond Bold"/>
              </a:rPr>
              <a:t>HTTP Server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26800" y="2689200"/>
            <a:ext cx="992880" cy="58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</a:rPr>
              <a:t>SOA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Garamond Bold"/>
              </a:rPr>
              <a:t>Handler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24400" y="2289240"/>
            <a:ext cx="1292400" cy="156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2427120"/>
            <a:ext cx="1119600" cy="58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</a:rPr>
              <a:t>Servi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Garamond Bold"/>
              </a:rPr>
              <a:t>Registrar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4600" y="3119400"/>
            <a:ext cx="970200" cy="58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</a:rPr>
              <a:t>Service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</a:rPr>
              <a:t>Invoker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8600" y="2306520"/>
            <a:ext cx="2532240" cy="3373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</a:rPr>
              <a:t>WS Service Registry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494080" y="2982960"/>
            <a:ext cx="1346040" cy="67320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09800" y="3484440"/>
            <a:ext cx="14472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Garamond Bold"/>
              </a:rPr>
              <a:t>IRS-III Server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22400" y="4808520"/>
            <a:ext cx="1079280" cy="738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9760" y="548640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cc"/>
                </a:solidFill>
                <a:latin typeface="Verdana"/>
              </a:rPr>
              <a:t>Invocation Client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569960" y="3817800"/>
            <a:ext cx="11160" cy="98136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0760" y="3171960"/>
            <a:ext cx="909360" cy="368280"/>
          </a:xfrm>
          <a:prstGeom prst="rect">
            <a:avLst/>
          </a:prstGeom>
          <a:solidFill>
            <a:srgbClr val="b2b2b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cc"/>
                </a:solidFill>
                <a:latin typeface="Verdana"/>
              </a:rPr>
              <a:t>SOAP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7440" y="4179960"/>
            <a:ext cx="909720" cy="368280"/>
          </a:xfrm>
          <a:prstGeom prst="rect">
            <a:avLst/>
          </a:prstGeom>
          <a:solidFill>
            <a:srgbClr val="b2b2b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cc"/>
                </a:solidFill>
                <a:latin typeface="Verdana"/>
              </a:rPr>
              <a:t>SOAP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62520" y="2992320"/>
            <a:ext cx="4795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33840" y="1600200"/>
            <a:ext cx="1310040" cy="1206000"/>
            <a:chOff x="933840" y="1600200"/>
            <a:chExt cx="1310040" cy="1206000"/>
          </a:xfrm>
        </p:grpSpPr>
        <p:sp>
          <p:nvSpPr>
            <p:cNvPr id="154" name=""/>
            <p:cNvSpPr/>
            <p:nvPr/>
          </p:nvSpPr>
          <p:spPr>
            <a:xfrm>
              <a:off x="933840" y="21636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cc"/>
                  </a:solidFill>
                  <a:latin typeface="Verdana"/>
                </a:rPr>
                <a:t>Publishing </a:t>
              </a:r>
              <a:br>
                <a:rPr sz="1800"/>
              </a:br>
              <a:r>
                <a:rPr b="0" i="1" lang="en-GB" sz="1800" spc="-1" strike="noStrike">
                  <a:solidFill>
                    <a:srgbClr val="0000cc"/>
                  </a:solidFill>
                  <a:latin typeface="Verdana"/>
                </a:rPr>
                <a:t>Clients</a:t>
              </a:r>
              <a:endParaRPr b="0" lang="en-US" sz="1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946440" y="1600200"/>
              <a:ext cx="1283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 flipV="1">
            <a:off x="1582560" y="2688840"/>
            <a:ext cx="0" cy="80820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1560" y="2887560"/>
            <a:ext cx="896760" cy="368280"/>
          </a:xfrm>
          <a:prstGeom prst="rect">
            <a:avLst/>
          </a:prstGeom>
          <a:solidFill>
            <a:srgbClr val="b2b2b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cc"/>
                </a:solidFill>
                <a:latin typeface="Verdana"/>
              </a:rPr>
              <a:t>SOAP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13520" y="4672080"/>
            <a:ext cx="118260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69000" y="4741920"/>
            <a:ext cx="118440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73600" y="5003640"/>
            <a:ext cx="118584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18040" y="5054760"/>
            <a:ext cx="1184400" cy="625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72160" y="5234040"/>
            <a:ext cx="118584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87960" y="5264280"/>
            <a:ext cx="1182960" cy="6267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6680" y="4737240"/>
            <a:ext cx="1182600" cy="6267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57240" y="491796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eb Service 1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30120" y="515772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eb Service 2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11000" y="546876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eb Service 3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934240" y="3736440"/>
            <a:ext cx="0" cy="99396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1:14:15Z</dcterms:created>
  <dc:creator>KMi</dc:creator>
  <dc:description/>
  <dc:language>en-US</dc:language>
  <cp:lastModifiedBy>John Domingue</cp:lastModifiedBy>
  <cp:lastPrinted>2001-02-27T15:21:15Z</cp:lastPrinted>
  <dcterms:modified xsi:type="dcterms:W3CDTF">2004-09-29T08:35:57Z</dcterms:modified>
  <cp:revision>299</cp:revision>
  <dc:subject/>
  <dc:title>No Slide Title</dc:title>
</cp:coreProperties>
</file>