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6C193-1E28-4FF8-BB20-701829E654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4D635-AE77-4647-BE1C-0D3590B430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4C54A-FC4D-466A-A95F-7A7ED64B1D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3FCDA-7AD5-4541-939A-49C2291F6D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594F8-7010-4C7F-929C-68162895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4FD88-F346-49DB-8A22-97DB2AE4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1C30E-AA26-4C9B-8D38-20A2B8C5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91F0F-3328-4EE2-B54A-D26A57E8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9F2A6-45BE-452E-8FDA-4B1AC2EA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CE01B-A952-40CC-9C89-893419EC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C2996-484C-4CCE-B596-BF5F0F9F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415FF-0173-40D7-89B8-46C6A5D17A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02E72-6BD6-442E-A898-CEBB1FEF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3A9E1-B492-4C41-8CA8-0ADE2B46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F34DE-4448-4EDC-A3CE-24928771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C817F-73AF-42A2-AD69-F9DAB4EB1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B8576-CF1E-4071-A98C-5EC110A2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C8ACC8-0A81-4DBA-BF15-FE0C82BD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1BCF3C-E6FC-4729-8385-29A1D36F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910722-15D2-4085-BF46-0E8FDCD1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F766BC-1AA6-481F-9C88-B4EDE843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294F86-FC55-4510-8104-18519188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758D2-1EAD-4AC4-8202-FC623BBC87F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5B9D41-E979-4361-901D-9DFAE5F1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147AB4-E9E2-477E-924F-1155BED6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C26EAF-3960-41EC-BFBA-7DAC97C6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646E0D-1CB9-4077-99A7-78251B4B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41060A-61F6-4BA0-9C1F-731A7B7F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873583-130E-4E00-9D80-0ACDF4BD3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F0402A-2F4C-49C4-A78C-5CEC7980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1F8FA-0782-4C8D-8FF1-EF7EA8A7C0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1E330-F1DB-4767-90E2-D1DBD7B68F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5DBA4-C8D1-41FE-B015-D5AFDF150E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E258E-9F8F-4F09-8153-14DA1071EB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4396F-2B35-4035-9539-E83F62B937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7B343-A7C4-4634-8F21-F9A570ADE4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916360" y="6244920"/>
            <a:ext cx="352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matthew.moran@deri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BFD3-0CCD-4079-8BBF-7A8CA7823EC0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00" y="1484280"/>
            <a:ext cx="84960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7640" y="6237360"/>
            <a:ext cx="593640" cy="59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&lt;footer&gt;matthew.moran@deri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9ACE-1C37-431C-8702-3582084BB4EE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2060640"/>
            <a:ext cx="84960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r>
              <a:rPr b="0" lang="nl-NL" sz="1400" spc="-1" strike="noStrike">
                <a:solidFill>
                  <a:srgbClr val="000000"/>
                </a:solidFill>
                <a:latin typeface="Garamond"/>
              </a:rPr>
              <a:t>07-07-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24360" y="568440"/>
            <a:ext cx="1241280" cy="1276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2060640"/>
            <a:ext cx="8496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r>
              <a:rPr b="0" lang="nl-NL" sz="1400" spc="-1" strike="noStrike">
                <a:solidFill>
                  <a:srgbClr val="000000"/>
                </a:solidFill>
                <a:latin typeface="Garamond"/>
              </a:rPr>
              <a:t>07-07-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Matthew Mor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matthew.moran@deri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A1BC-E74E-4B29-A67F-49DB9CB53D60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%7Bmatthew.moran%7D@deri.org" TargetMode="External"/><Relationship Id="rId2" Type="http://schemas.openxmlformats.org/officeDocument/2006/relationships/hyperlink" Target="mailto:%7Bmatthew.moran%7D@deri.org" TargetMode="External"/><Relationship Id="rId3" Type="http://schemas.openxmlformats.org/officeDocument/2006/relationships/hyperlink" Target="mailto:%7Bmatthew.moran%7D@deri.org" TargetMode="External"/><Relationship Id="rId4" Type="http://schemas.openxmlformats.org/officeDocument/2006/relationships/hyperlink" Target="mailto:%7Bmatthew.moran%7D@deri.org" TargetMode="External"/><Relationship Id="rId5" Type="http://schemas.openxmlformats.org/officeDocument/2006/relationships/hyperlink" Target="mailto:%7Bmatthew.moran%7D@deri.org" TargetMode="External"/><Relationship Id="rId6" Type="http://schemas.openxmlformats.org/officeDocument/2006/relationships/hyperlink" Target="mailto:%7Bmatthew.moran%7D@deri.org" TargetMode="External"/><Relationship Id="rId7" Type="http://schemas.openxmlformats.org/officeDocument/2006/relationships/hyperlink" Target="mailto:%7Bmatthew.moran%7D@deri.org" TargetMode="External"/><Relationship Id="rId8" Type="http://schemas.openxmlformats.org/officeDocument/2006/relationships/hyperlink" Target="mailto:%7Bmatthew.moran%7D@deri.org" TargetMode="External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wsmx.org/" TargetMode="External"/><Relationship Id="rId2" Type="http://schemas.openxmlformats.org/officeDocument/2006/relationships/hyperlink" Target="http://sourceforge.net/projects/wsmx" TargetMode="External"/><Relationship Id="rId3" Type="http://schemas.openxmlformats.org/officeDocument/2006/relationships/hyperlink" Target="http://sourceforge.net/projects/wsmx" TargetMode="Externa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Using WSMX to Bind Requester &amp; Provider at Runtime when Executing Semantic Web Service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32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Garamond"/>
              </a:rPr>
              <a:t>Matthew Moran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 Michal Zaremba, Adrian Mocan, Christoph Bussl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igital Enterprise Research Institut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{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Garamond"/>
                <a:hlinkClick r:id="rId2"/>
              </a:rPr>
              <a:t>matthew.moran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Garamond"/>
                <a:hlinkClick r:id="rId3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Garamond"/>
                <a:hlinkClick r:id="rId4"/>
              </a:rPr>
              <a:t>michal.zaremba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Garamond"/>
                <a:hlinkClick r:id="rId5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Garamond"/>
                <a:hlinkClick r:id="rId6"/>
              </a:rPr>
              <a:t>adrian.mocan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Garamond"/>
                <a:hlinkClick r:id="rId7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Garamond"/>
                <a:hlinkClick r:id="rId8"/>
              </a:rPr>
              <a:t>chris.bussler}@deri.org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WSMO Implementation Worksho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rankfurt, Germany, 28-29 September 200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aramond"/>
              </a:rPr>
              <a:t>Solution: WSMX Architectur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6912000" cy="44197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H="1">
            <a:off x="3131640" y="1989000"/>
            <a:ext cx="863640" cy="11527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3357720"/>
            <a:ext cx="718920" cy="792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59280" y="3357720"/>
            <a:ext cx="288720" cy="792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9038C-932F-4421-B35C-512AD14B3F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aramond"/>
              </a:rPr>
              <a:t>Solution: WSMX Architectur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6912000" cy="4419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547640" y="2421000"/>
            <a:ext cx="863640" cy="1443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CB7AD-6280-465E-B20A-794DB90F86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aramond"/>
              </a:rPr>
              <a:t>Solution: WSMX Architectur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6912000" cy="4419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47640" y="2421000"/>
            <a:ext cx="863640" cy="1443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56000" y="2852640"/>
            <a:ext cx="0" cy="11527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0A20F-D3A8-4EA0-AC10-6CFB4F7316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aramond"/>
              </a:rPr>
              <a:t>Solution: WSMX Architectur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6912000" cy="4419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547640" y="2421000"/>
            <a:ext cx="863640" cy="1443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2852640"/>
            <a:ext cx="0" cy="11527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843280" y="2924280"/>
            <a:ext cx="360360" cy="100944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A0AE4-6289-40E0-B604-B5602AD647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aramond"/>
              </a:rPr>
              <a:t>Solution: WSMX Architectur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6912000" cy="4419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547640" y="2421000"/>
            <a:ext cx="863640" cy="1443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56000" y="2852640"/>
            <a:ext cx="0" cy="11527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843280" y="2924280"/>
            <a:ext cx="360360" cy="100944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2852640"/>
            <a:ext cx="574560" cy="289080"/>
          </a:xfrm>
          <a:custGeom>
            <a:avLst/>
            <a:gdLst/>
            <a:ahLst/>
            <a:rect l="l" t="t" r="r" b="b"/>
            <a:pathLst>
              <a:path w="362" h="182">
                <a:moveTo>
                  <a:pt x="0" y="0"/>
                </a:moveTo>
                <a:cubicBezTo>
                  <a:pt x="60" y="91"/>
                  <a:pt x="121" y="182"/>
                  <a:pt x="181" y="182"/>
                </a:cubicBezTo>
                <a:cubicBezTo>
                  <a:pt x="241" y="182"/>
                  <a:pt x="332" y="30"/>
                  <a:pt x="362" y="0"/>
                </a:cubicBezTo>
              </a:path>
            </a:pathLst>
          </a:custGeom>
          <a:noFill/>
          <a:ln w="936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7633B-9CD6-41CB-B2ED-6A1DF5F660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aramond"/>
              </a:rPr>
              <a:t>Solution: WSMX Architectur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6912000" cy="4419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547640" y="2421000"/>
            <a:ext cx="863640" cy="1443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56000" y="2852640"/>
            <a:ext cx="0" cy="11527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843280" y="2924280"/>
            <a:ext cx="360360" cy="100944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2852640"/>
            <a:ext cx="574560" cy="289080"/>
          </a:xfrm>
          <a:custGeom>
            <a:avLst/>
            <a:gdLst/>
            <a:ahLst/>
            <a:rect l="l" t="t" r="r" b="b"/>
            <a:pathLst>
              <a:path w="362" h="182">
                <a:moveTo>
                  <a:pt x="0" y="0"/>
                </a:moveTo>
                <a:cubicBezTo>
                  <a:pt x="60" y="91"/>
                  <a:pt x="121" y="182"/>
                  <a:pt x="181" y="182"/>
                </a:cubicBezTo>
                <a:cubicBezTo>
                  <a:pt x="241" y="182"/>
                  <a:pt x="332" y="30"/>
                  <a:pt x="362" y="0"/>
                </a:cubicBezTo>
              </a:path>
            </a:pathLst>
          </a:custGeom>
          <a:noFill/>
          <a:ln w="936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2852640"/>
            <a:ext cx="0" cy="2890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7488F-5E03-4BBC-AECD-F221287218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aramond"/>
              </a:rPr>
              <a:t>Solution: WSMX Architectur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6912000" cy="44197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547640" y="2421000"/>
            <a:ext cx="863640" cy="1443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56000" y="2852640"/>
            <a:ext cx="0" cy="11527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843280" y="2924280"/>
            <a:ext cx="360360" cy="100944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2852640"/>
            <a:ext cx="574560" cy="289080"/>
          </a:xfrm>
          <a:custGeom>
            <a:avLst/>
            <a:gdLst/>
            <a:ahLst/>
            <a:rect l="l" t="t" r="r" b="b"/>
            <a:pathLst>
              <a:path w="362" h="182">
                <a:moveTo>
                  <a:pt x="0" y="0"/>
                </a:moveTo>
                <a:cubicBezTo>
                  <a:pt x="60" y="91"/>
                  <a:pt x="121" y="182"/>
                  <a:pt x="181" y="182"/>
                </a:cubicBezTo>
                <a:cubicBezTo>
                  <a:pt x="241" y="182"/>
                  <a:pt x="332" y="30"/>
                  <a:pt x="362" y="0"/>
                </a:cubicBezTo>
              </a:path>
            </a:pathLst>
          </a:custGeom>
          <a:noFill/>
          <a:ln w="936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84720" y="2852640"/>
            <a:ext cx="0" cy="2890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32360" y="2852640"/>
            <a:ext cx="0" cy="2890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B4EC0-EA35-46B1-A7D7-D3E61F8A1D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aramond"/>
              </a:rPr>
              <a:t>Solution: WSMX Architectur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6912000" cy="44197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547640" y="2421000"/>
            <a:ext cx="863640" cy="1443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56000" y="2852640"/>
            <a:ext cx="0" cy="11527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843280" y="2924280"/>
            <a:ext cx="360360" cy="100944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2852640"/>
            <a:ext cx="574560" cy="289080"/>
          </a:xfrm>
          <a:custGeom>
            <a:avLst/>
            <a:gdLst/>
            <a:ahLst/>
            <a:rect l="l" t="t" r="r" b="b"/>
            <a:pathLst>
              <a:path w="362" h="182">
                <a:moveTo>
                  <a:pt x="0" y="0"/>
                </a:moveTo>
                <a:cubicBezTo>
                  <a:pt x="60" y="91"/>
                  <a:pt x="121" y="182"/>
                  <a:pt x="181" y="182"/>
                </a:cubicBezTo>
                <a:cubicBezTo>
                  <a:pt x="241" y="182"/>
                  <a:pt x="332" y="30"/>
                  <a:pt x="362" y="0"/>
                </a:cubicBezTo>
              </a:path>
            </a:pathLst>
          </a:custGeom>
          <a:noFill/>
          <a:ln w="936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84720" y="2852640"/>
            <a:ext cx="0" cy="2890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32360" y="2852640"/>
            <a:ext cx="0" cy="2890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08720" y="2852640"/>
            <a:ext cx="0" cy="2890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D967F-75D5-472B-8DBA-AE7015179A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aramond"/>
              </a:rPr>
              <a:t>Solution: WSMX Architectur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6912000" cy="44197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547640" y="2421000"/>
            <a:ext cx="863640" cy="1443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56000" y="2852640"/>
            <a:ext cx="0" cy="11527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843280" y="2924280"/>
            <a:ext cx="360360" cy="100944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2852640"/>
            <a:ext cx="574560" cy="289080"/>
          </a:xfrm>
          <a:custGeom>
            <a:avLst/>
            <a:gdLst/>
            <a:ahLst/>
            <a:rect l="l" t="t" r="r" b="b"/>
            <a:pathLst>
              <a:path w="362" h="182">
                <a:moveTo>
                  <a:pt x="0" y="0"/>
                </a:moveTo>
                <a:cubicBezTo>
                  <a:pt x="60" y="91"/>
                  <a:pt x="121" y="182"/>
                  <a:pt x="181" y="182"/>
                </a:cubicBezTo>
                <a:cubicBezTo>
                  <a:pt x="241" y="182"/>
                  <a:pt x="332" y="30"/>
                  <a:pt x="362" y="0"/>
                </a:cubicBezTo>
              </a:path>
            </a:pathLst>
          </a:custGeom>
          <a:noFill/>
          <a:ln w="936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84720" y="2852640"/>
            <a:ext cx="0" cy="2890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32360" y="2852640"/>
            <a:ext cx="0" cy="2890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08720" y="2852640"/>
            <a:ext cx="0" cy="2890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2852640"/>
            <a:ext cx="0" cy="21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5413B-668E-43F4-AF4C-D36C369A38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aramond"/>
              </a:rPr>
              <a:t>Solution: WSMX Architectur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6912000" cy="4419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547640" y="2421000"/>
            <a:ext cx="863640" cy="1443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56000" y="2852640"/>
            <a:ext cx="0" cy="11527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843280" y="2924280"/>
            <a:ext cx="360360" cy="100944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2852640"/>
            <a:ext cx="574560" cy="289080"/>
          </a:xfrm>
          <a:custGeom>
            <a:avLst/>
            <a:gdLst/>
            <a:ahLst/>
            <a:rect l="l" t="t" r="r" b="b"/>
            <a:pathLst>
              <a:path w="362" h="182">
                <a:moveTo>
                  <a:pt x="0" y="0"/>
                </a:moveTo>
                <a:cubicBezTo>
                  <a:pt x="60" y="91"/>
                  <a:pt x="121" y="182"/>
                  <a:pt x="181" y="182"/>
                </a:cubicBezTo>
                <a:cubicBezTo>
                  <a:pt x="241" y="182"/>
                  <a:pt x="332" y="30"/>
                  <a:pt x="362" y="0"/>
                </a:cubicBezTo>
              </a:path>
            </a:pathLst>
          </a:custGeom>
          <a:noFill/>
          <a:ln w="936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4720" y="2852640"/>
            <a:ext cx="0" cy="2890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2852640"/>
            <a:ext cx="0" cy="2890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2852640"/>
            <a:ext cx="0" cy="2890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2852640"/>
            <a:ext cx="0" cy="21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32720" y="2852640"/>
            <a:ext cx="0" cy="2890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78B85-9FC4-4760-BEBC-1FC081EBF9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The proble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Why runtime binding is good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Problem with current web service technology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Requirements for a solu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Conceptual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Proposed solu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WSMX and runtime bindin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WSMX architecture and operat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Mediat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Wrap-u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Related work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91393-CC4E-422C-8110-D7227BDEF7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aramond"/>
              </a:rPr>
              <a:t>Solution: WSMX Architectur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6912000" cy="44197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547640" y="2421000"/>
            <a:ext cx="863640" cy="1443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56000" y="2852640"/>
            <a:ext cx="0" cy="11527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843280" y="2924280"/>
            <a:ext cx="360360" cy="100944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76720" y="2852640"/>
            <a:ext cx="574560" cy="289080"/>
          </a:xfrm>
          <a:custGeom>
            <a:avLst/>
            <a:gdLst/>
            <a:ahLst/>
            <a:rect l="l" t="t" r="r" b="b"/>
            <a:pathLst>
              <a:path w="362" h="182">
                <a:moveTo>
                  <a:pt x="0" y="0"/>
                </a:moveTo>
                <a:cubicBezTo>
                  <a:pt x="60" y="91"/>
                  <a:pt x="121" y="182"/>
                  <a:pt x="181" y="182"/>
                </a:cubicBezTo>
                <a:cubicBezTo>
                  <a:pt x="241" y="182"/>
                  <a:pt x="332" y="30"/>
                  <a:pt x="362" y="0"/>
                </a:cubicBezTo>
              </a:path>
            </a:pathLst>
          </a:custGeom>
          <a:noFill/>
          <a:ln w="936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84720" y="2852640"/>
            <a:ext cx="0" cy="2890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32360" y="2852640"/>
            <a:ext cx="0" cy="2890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08720" y="2852640"/>
            <a:ext cx="0" cy="2890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56360" y="2852640"/>
            <a:ext cx="0" cy="21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32720" y="2852640"/>
            <a:ext cx="0" cy="2890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20000" y="3213000"/>
            <a:ext cx="28872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BED59-3708-4F0F-A186-E36A8B8860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aramond"/>
              </a:rPr>
              <a:t>Solution: WSMX Mediation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252440" y="1600200"/>
          <a:ext cx="66373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440" y="1600200"/>
                    <a:ext cx="6637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31E8F-9A9D-45BE-8D7F-5F08DDCFF6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aramond"/>
              </a:rPr>
              <a:t>Solution: WSMX Discovery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Based on matching of logical Goals with WS Capabilit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Goals and capabilities have postconditions and effects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Capabilities additionally have preconditions and assumptio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WSMX adds concept of conditional Web Service to capabilit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368520" y="4025880"/>
            <a:ext cx="1067040" cy="914040"/>
            <a:chOff x="3368520" y="4025880"/>
            <a:chExt cx="1067040" cy="914040"/>
          </a:xfrm>
        </p:grpSpPr>
        <p:pic>
          <p:nvPicPr>
            <p:cNvPr id="231" name="" descr=""/>
            <p:cNvPicPr/>
            <p:nvPr/>
          </p:nvPicPr>
          <p:blipFill>
            <a:blip r:embed="rId1"/>
            <a:stretch/>
          </p:blipFill>
          <p:spPr>
            <a:xfrm>
              <a:off x="3949920" y="4025880"/>
              <a:ext cx="4856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2"/>
            <a:stretch/>
          </p:blipFill>
          <p:spPr>
            <a:xfrm>
              <a:off x="3368520" y="4179240"/>
              <a:ext cx="575280" cy="53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3"/>
            <a:stretch/>
          </p:blipFill>
          <p:spPr>
            <a:xfrm>
              <a:off x="3736800" y="4346280"/>
              <a:ext cx="637560" cy="59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"/>
          <p:cNvSpPr/>
          <p:nvPr/>
        </p:nvSpPr>
        <p:spPr>
          <a:xfrm>
            <a:off x="1844640" y="43308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1844640" y="4711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111720" y="3797280"/>
            <a:ext cx="91440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88040" y="387360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645240" y="387360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64360" y="410220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68920" y="4254480"/>
            <a:ext cx="1526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568920" y="3797280"/>
            <a:ext cx="30492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88040" y="4025880"/>
            <a:ext cx="30492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92560" y="577836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ditional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045040" y="577836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ditional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S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730840" y="4102200"/>
            <a:ext cx="914400" cy="16761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3978360" y="4254480"/>
            <a:ext cx="2209680" cy="15238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9920" y="4025880"/>
            <a:ext cx="16002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3596760" y="4940280"/>
            <a:ext cx="304920" cy="838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35560" y="4940280"/>
            <a:ext cx="990360" cy="838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07160" y="349236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SMO Regi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740120" y="4025520"/>
            <a:ext cx="137160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87640" y="36450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SMX Matchma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045040" y="417816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ossible Ma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35360" y="554976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721560" y="53974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25520" y="40258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68320" y="47880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llection of 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45040" y="38736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25720" y="509256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49560" y="37972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073240" y="50166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Step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01640" y="3949560"/>
            <a:ext cx="1066680" cy="106704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tch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requ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11309-0449-4A6B-A9CD-CD24040B70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aramond"/>
              </a:rPr>
              <a:t>Solution: WSMX Implementation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Event based component architectur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Current statu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Version 1 codebase implement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Opensource at http://sourceforge.net/projects/wsmx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Data mediation component implement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Other component interfaces defined and partially implement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Main technologies used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Apache Tomcat and Apache Axi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Database – MySQL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Eclipse IDE and Ant as build too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6CFB9-BB8A-4B17-B2F0-15E7A7C5FE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aramond"/>
              </a:rPr>
              <a:t>Wrap-up: Related Wor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IRS3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Interoperable, slightly different focu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BPEL4WS + DAML-S + SD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Bottom-up approac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Not clear how the discovery work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Meteor-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Research into adding semantics to Web Services and publishing these in UDDI director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Biztalk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Services used in processes must be bound at design tim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B4BEF-FF14-4B94-9CCE-29B2E986C54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aramond"/>
              </a:rPr>
              <a:t>Wrap-up: WSMX Summary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Runtime binding of requester and provider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Conceptual model is WSMO with some add-on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End-to-end functionality for executing SW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Formal execution semantic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Real implementation – demo later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Open source code base at SourceForg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Event driven component architectur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Developers welcom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http://www.wsmx.org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Garamond"/>
                <a:hlinkClick r:id="rId2"/>
              </a:rPr>
              <a:t>http://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Garamond"/>
                <a:hlinkClick r:id="rId3"/>
              </a:rPr>
              <a:t>sourceforge.net/projects/wsmx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DFDD5-F7A2-47B3-9D70-64B0B92069A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aramond"/>
              </a:rPr>
              <a:t>Wrap-up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"/>
          <p:cNvSpPr/>
          <p:nvPr/>
        </p:nvSpPr>
        <p:spPr>
          <a:xfrm>
            <a:off x="2700360" y="306864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74A3B-393B-40EE-80D4-DAD0E0170BE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aramond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Ideal world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Businesses able to discover and bind to services at runtim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Issues of security, reliability, trust and interoperability of data, process and protocol automatically resolv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Less ideal world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Businesses have trading partner agreements with multiple companies offering a wide variety of servic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Business specify a requirement to be achieved and have that requirement satisfied by a service from one of these compan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Businesses don’t want to have to reprogram their systems each time a new service provider becomes known to the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Runtime binding of requester to provide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C7C57-EB41-4AD6-841D-9AC0315C64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aramond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Current Web Service technology is syntactic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WSDL for service interface and binding descript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UDDI registries for service descriptions written in free tex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Assumptions: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Shared understanding of terms used in WSD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Shared understanding of terms used in UDD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Automatic stub generation is possible from WSDL but …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Code has to be written to invoke the stub for each serv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Shared understanding assumption is made again for the meaning of the service input and output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Positive aspect of current Web Servic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Programming language independent e.g. Service in Java, requester in Lis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D539C-7404-452B-8BB4-491F8AC70B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aramond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Semantic descriptions of various aspects of Web Services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Service capabilities: what a service  can d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Requester goals: what a requester seek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Mediators to bridge between goals and capabilitie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Non-functional properties: aspects like security, reliability, pricing …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Descriptions written in terms of ontolog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No assumption that provider &amp; requester use same ontolog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Mediators required to provide the bridg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Data mediation is the first step, process and protocol mediation to follow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Computer systems must be able to precisely interpret and reason about the semantic descriptio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E79FC-6112-41BB-8BD4-E9C77302E4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aramond"/>
              </a:rPr>
              <a:t>Requirements: Environment 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Be able to interpret the semantic descriptio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Carry out the activities of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Service discovery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Service select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Mediat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Service invocation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Should have a modular construc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Clear well defined interfaces shielding implementation detail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As technology improves components can be upgraded or replaced without affecting the stability of the system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Should provide access to a registry of service descriptio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Overall enable a complete round trip from requester to provide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53EA4-7C72-48F5-94CD-5784F4681D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aramond"/>
              </a:rPr>
              <a:t>Solution: WSMX &amp; Runtime Binding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WSMX is a software framework that allows runtime binding of service requester and provide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Requester provides semantic description of goa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WSMX interprets the goal to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Discover matching service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Select the service that best fit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Provide data mediation if required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Make the service invocat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Based on the conceptual model provided by WSM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Add-ons required for WSMXGoal, BusinessPartner, Preference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WSMX has a formal execution semantic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Describes how WSMX gets from requester goal to service invocat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51DEB-9F79-4DDA-9739-319EDDA76A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aramond"/>
              </a:rPr>
              <a:t>Solution: WSMX Architectur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691200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817FF-69E1-431E-A077-DBF7DFC19F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aramond"/>
              </a:rPr>
              <a:t>Solution: WSMX Architectur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6912000" cy="4419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H="1">
            <a:off x="3131640" y="1989000"/>
            <a:ext cx="863640" cy="11527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3ACD4-BB90-4327-99E6-489A72F33B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9:36:29Z</dcterms:created>
  <dc:creator>Matthew Moran</dc:creator>
  <dc:description/>
  <dc:language>en-US</dc:language>
  <cp:lastModifiedBy>Matt Moran</cp:lastModifiedBy>
  <dcterms:modified xsi:type="dcterms:W3CDTF">2004-09-29T09:33:19Z</dcterms:modified>
  <cp:revision>470</cp:revision>
  <dc:subject>SWS</dc:subject>
  <dc:title>Using WSMX to Bind Requester and Provider at Runti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3091691</vt:r8>
  </property>
  <property fmtid="{D5CDD505-2E9C-101B-9397-08002B2CF9AE}" pid="3" name="_AuthorEmail">
    <vt:lpwstr>matthew.moran@deri.org</vt:lpwstr>
  </property>
  <property fmtid="{D5CDD505-2E9C-101B-9397-08002B2CF9AE}" pid="4" name="_AuthorEmailDisplayName">
    <vt:lpwstr>Matthew Moran</vt:lpwstr>
  </property>
  <property fmtid="{D5CDD505-2E9C-101B-9397-08002B2CF9AE}" pid="5" name="_EmailSubject">
    <vt:lpwstr>wiw workshop</vt:lpwstr>
  </property>
</Properties>
</file>