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1D98-8F13-49A6-8945-E9AD58A3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D4D5-B404-40FB-926F-9CA7D0E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93F3-658D-409C-A713-C9AB808D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A6BE-0F20-46E2-8899-E7F7FDE5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82B-46D3-4BAF-9686-80B0650A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F04-B44B-4E54-B8A6-404F2BB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61DA-85C0-4184-AB91-046A1E5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24CD-3602-4C4F-8009-C025C2A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5532-E23A-4EBF-A754-3209FDB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55B6-0540-4F99-9552-AB9BEFF1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C629-4951-4782-B9B0-F93BBFA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3A1A-E49E-43C8-9D21-289B86D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2C6C-E3BD-4387-8A37-4FFE1B2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77B7-1D97-4F4F-878F-0C17054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8F1B-FED3-462E-B2A6-01DAE69A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72AF-A369-4F77-A986-4357B019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4891-7E05-4505-8BFC-6AF27711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4A58-9638-455A-A74B-9B671D3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37CC-177E-475E-8193-F1F8D18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BE4B-69A7-4299-8E20-530967A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9587-919A-4250-A3C6-BF4C653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3B4-BAB0-4CBC-8032-B0258A04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5B22-0942-4315-9647-97D529D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AF43-97B8-4BA8-8D61-BD1C0B0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6092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WSMX execution seman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148428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6092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EAB-DD52-4655-AC79-56F85CD199D5}" type="slidenum">
              <a:rPr b="0" lang="en-GB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68000" y="645300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eyal.ore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05360" y="620640"/>
            <a:ext cx="1133280" cy="1038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51FA-41F8-4132-A2D8-C23D31591796}" type="slidenum">
              <a:rPr b="0" lang="en-GB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WSMX Execution Semantic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xecutable Software Specific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yal Or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ER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yal.oren@deri.or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WSMX execution semantic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276720" y="1557360"/>
            <a:ext cx="4751280" cy="466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3959280"/>
            <a:ext cx="3960720" cy="134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234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pa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F1C3-F775-4A56-8C12-4E91913EEEC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Using execution semantic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he goal wa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nderstandabi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odel-driven ex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d this work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DE9F-4EC1-44A9-A4E0-4C140DA99F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Did it work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Understand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ot easily readable: syntax is very simple, but model gets comple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ard to write and time-consuming to mainta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imulation is very helpfu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Executing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echnical problems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ynchronous invocation from the engi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ork in progress – the general idea is 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7B8D-90D4-48F7-B15F-E777D6E71D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Did it work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Model check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rge amount of work on problems in Petri nets (algorithms, tools, decidability &amp; complexity result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wever, we did not use this possibility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uring implementation developers had to manually translate the Petri net specification into Java cod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ut model is not easily readable: implementation did not strictly follow model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odel checking not very usefu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180C-FD60-4F9B-98F9-1D2407887F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pecifying execution semantics as part of software develop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ree objectives: understandability, model checking, component ex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sed Petri nets to specify the behaviour of WSM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etri nets are not a useful technique for this specificatio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ot easily readable (and not easily writabl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odel checking and executability in principle possi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363B-9C3D-40FD-88BE-ECA96C8143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vestigate other techniques that overcome these probl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ke into account: we want to do model checking and execute the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ML Activity diagrams: easily readable, more intuitive, no model exec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AWL: builds on Petri nets, designed for usability, no good tools y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parate techniqu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one model for proving and execu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second model for clarification and understand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second would be generated from the firs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B82A-3295-44C4-98F1-B744F39A97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6C2D-45DE-465A-90C5-22789606754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Background information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SMX: execution environment for dynamic discovery, selection, mediation and invocation of semantic web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SMX is built on WSMO: services, ontologies, goals and medi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SMX: manages repository, achieves user’s goal by selecting matching service, mediating and invok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46D2-FDDF-48A0-8BB6-3A3F02A219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Designing WSMX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onceptual model: what are we talking abou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Architecture: components, how they intera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ecution semantics: system behaviou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77840" y="3935520"/>
            <a:ext cx="6986520" cy="237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379B-81AE-4DF2-8A0F-3C3E387E18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What did we do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sign of WSMX includes formal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specification of system behaviou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Reas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nlarging developers’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understanding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of the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proving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properties of the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nabling model-driven component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e present the execution semantics of WSMX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d our approach address the objective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C216-5AFE-42A9-BA6C-41EC5E7D18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What are execution semantics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Four phases in software development: requirements, design, implementation, tes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Formal methods can be used during design: to improve the design process and the resul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Formal method: a mathematically-based language for specifying sys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ecution semantics: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formal definition of operational behaviour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f a system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3BD4-0E97-4267-9D41-57C96424E7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Why model execution semantics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Formal methods do not make correct program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Increase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understanding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and agreement between project members (by explicit specification proces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check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properties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of the constructed specification: discover future properties of the modelled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B96A-6F07-4558-83EF-AD0FD42DC6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Why model execution semantics?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th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neral idea: specification is input for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ecu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gin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; engine executes model, informs components to perform a task (workflow management, business process managemen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argument in favour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lexibilit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not hard-coding this interplay, no need to translate specification into programming co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argument against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effici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mplementation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ght not be important: if composition is simple and components themselves are implemented efficient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D3FD-4A6E-4E61-9241-E00EB7C59B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Requirements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large developers’ understanding: technique must be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easily readable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yet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unambiguou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heck properties of the system: technique must be formal and have a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proof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Automate coordination between components</a:t>
            </a: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technique must have 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operationalisation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, and execution procedure for a mod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7A72-2B17-48C0-8517-00D3AF69C3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How to model execution semantics?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e want to automate control flow between compon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omponents treated as black-boxes: we know their functionality but not how they oper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Using Petri ne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aphical, supposedly easily underst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ormalised, well analys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D3FA-1527-4332-A6AE-96C621933AA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0 Sep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9:08:28Z</dcterms:created>
  <dc:creator>Eyal Oren</dc:creator>
  <dc:description/>
  <dc:language>en-US</dc:language>
  <cp:lastModifiedBy>Eyal Oren</cp:lastModifiedBy>
  <dcterms:modified xsi:type="dcterms:W3CDTF">2004-09-30T06:34:45Z</dcterms:modified>
  <cp:revision>9</cp:revision>
  <dc:subject/>
  <dc:title>WSMX Execution Semantics</dc:title>
</cp:coreProperties>
</file>