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8720" y="3397320"/>
            <a:ext cx="748008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872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64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8080" y="132084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7080" y="132084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8720" y="339732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8080" y="339732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7080" y="339732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3040" y="266400"/>
            <a:ext cx="7810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872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64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8720" y="3397320"/>
            <a:ext cx="748008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Garamond Bold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3680" y="260280"/>
            <a:ext cx="91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Initiative movemen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00" y="1263600"/>
            <a:ext cx="48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Initiative movement activities: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43320" y="5332320"/>
            <a:ext cx="0" cy="100800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3320" y="2847960"/>
            <a:ext cx="0" cy="100800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38240" y="6473880"/>
            <a:ext cx="1081080" cy="73080"/>
          </a:xfrm>
          <a:prstGeom prst="rightArrow">
            <a:avLst>
              <a:gd name="adj1" fmla="val 50000"/>
              <a:gd name="adj2" fmla="val 36982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1910880" y="3901680"/>
            <a:ext cx="1081080" cy="73080"/>
          </a:xfrm>
          <a:prstGeom prst="rightArrow">
            <a:avLst>
              <a:gd name="adj1" fmla="val 50000"/>
              <a:gd name="adj2" fmla="val 36982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2560" y="36576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0" y="61866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7440" y="31240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73360" y="565164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50960" y="47131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Present-Initiativ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6600" y="22017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Obtain-Initiativ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37120" y="3340080"/>
            <a:ext cx="1584360" cy="1914120"/>
            <a:chOff x="5937120" y="3340080"/>
            <a:chExt cx="1584360" cy="1914120"/>
          </a:xfrm>
        </p:grpSpPr>
        <p:sp>
          <p:nvSpPr>
            <p:cNvPr id="149" name=""/>
            <p:cNvSpPr/>
            <p:nvPr/>
          </p:nvSpPr>
          <p:spPr>
            <a:xfrm rot="10800000">
              <a:off x="5937120" y="4131720"/>
              <a:ext cx="503280" cy="73080"/>
            </a:xfrm>
            <a:prstGeom prst="rightArrow">
              <a:avLst>
                <a:gd name="adj1" fmla="val 50000"/>
                <a:gd name="adj2" fmla="val 172167"/>
              </a:avLst>
            </a:prstGeom>
            <a:solidFill>
              <a:srgbClr val="ff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0040" y="46828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4400" y="3340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Key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40400" y="39160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Flow of Initiative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68760" y="461160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Initiative marker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65200" y="2938320"/>
            <a:ext cx="768240" cy="600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508040" y="5433840"/>
            <a:ext cx="768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3680" y="260280"/>
            <a:ext cx="91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Messages structur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633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0" y="4948920"/>
            <a:ext cx="3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</a:t>
            </a:r>
            <a:r>
              <a:rPr b="0" lang="en-GB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51000" y="954000"/>
          <a:ext cx="8111880" cy="5934240"/>
        </p:xfrm>
        <a:graphic>
          <a:graphicData uri="http://schemas.openxmlformats.org/drawingml/2006/table">
            <a:tbl>
              <a:tblPr/>
              <a:tblGrid>
                <a:gridCol w="2468520"/>
                <a:gridCol w="3057480"/>
                <a:gridCol w="258588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d-messag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ssage identifier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ender-WSMO-ontology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ome ontology of sender WSMO objec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SMO ontology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ceiver-WSMO-ontology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ome ontology of receiver WSMO objec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SMO ontology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ender-WSMO-Obj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ender identifier of WSMO object 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SMO web service concep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ceiver -WSMO-Obj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ceiver identifier of WSMO objec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SMO web service concep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d-sender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dentifier of the sender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d-receiver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dentifier of the receiver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vent-typ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ind of event (e.g. Receive, obtain)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vent typ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itiativ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ho has the initiativ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S/IRS-III (actor)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Denotes the content of messag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cords the time when the action is executed 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6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3400" y="1292400"/>
            <a:ext cx="7111800" cy="108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28880" y="4611600"/>
            <a:ext cx="5703840" cy="177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87560" y="2379600"/>
            <a:ext cx="6646680" cy="20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98120" y="1060200"/>
            <a:ext cx="748044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(def-wsmo-pattern-handler easy-jet-airline-pattern-handler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(message ?id ?easy-jet-ontology easy-jet-web-service-ontology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asy-jet-airline easy-jet-flight-booking-service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id-message-sender irs-iii obtain-message-event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current-initiative-holder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content ?time)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(flight-passenger ?content ?person)</a:t>
            </a:r>
            <a:br>
              <a:rPr sz="1800"/>
            </a:b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(flight-passenger ?content ?departure-location)</a:t>
            </a:r>
            <a:br>
              <a:rPr sz="1800"/>
            </a:b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(flight-arrival-location ?content ?arrival-location)</a:t>
            </a:r>
            <a:br>
              <a:rPr sz="1800"/>
            </a:b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 (flight-departure-time ?content ?departure-time</a:t>
            </a:r>
            <a:br>
              <a:rPr sz="1800"/>
            </a:b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(has-travel-plan ?person ?travel-plan)</a:t>
            </a:r>
            <a:br>
              <a:rPr sz="1800"/>
            </a:b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 (matches-travel-plan ?travel-plan ?departure-time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                               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departure-location ?arrival-location)  (has-travel-plan-message ?travel-plan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                                         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travel-plan-message)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(send-message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(create-message-id)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asy-jet-web-service-ontology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easy-jet-ontology easy-jet-flight-booking-service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asy-jet-airline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irs-iii ?id-message-sender present-message-event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current-initiative-holder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?travel-plan-message (current-time)))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Example Pattern Handler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336920" y="2657520"/>
            <a:ext cx="5208840" cy="2889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9160" y="525132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LispWeb Serv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7725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IRS-III Architecture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68" name=""/>
          <p:cNvSpPr/>
          <p:nvPr/>
        </p:nvSpPr>
        <p:spPr>
          <a:xfrm>
            <a:off x="5715000" y="2913120"/>
            <a:ext cx="365436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4600" y="48798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RS-III Serv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8480" y="3054240"/>
            <a:ext cx="1631880" cy="52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 Publishe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407360" y="3835440"/>
            <a:ext cx="1853640" cy="650880"/>
            <a:chOff x="7407360" y="3835440"/>
            <a:chExt cx="1853640" cy="650880"/>
          </a:xfrm>
        </p:grpSpPr>
        <p:sp>
          <p:nvSpPr>
            <p:cNvPr id="172" name=""/>
            <p:cNvSpPr/>
            <p:nvPr/>
          </p:nvSpPr>
          <p:spPr>
            <a:xfrm>
              <a:off x="7475760" y="3840480"/>
              <a:ext cx="1785240" cy="645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07360" y="3835440"/>
              <a:ext cx="9507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OCML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1920" y="4096080"/>
              <a:ext cx="1409040" cy="307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SMO Library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340320" y="5781600"/>
            <a:ext cx="1793880" cy="307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(-S) Handler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3080" y="5927760"/>
            <a:ext cx="9144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066080" y="4462560"/>
            <a:ext cx="561960" cy="13255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70120" y="57690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cc"/>
                </a:solidFill>
                <a:latin typeface="Arial"/>
              </a:rPr>
              <a:t>OWL(-S)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0120" y="20952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0240" y="2874960"/>
            <a:ext cx="834480" cy="808560"/>
            <a:chOff x="480240" y="2874960"/>
            <a:chExt cx="834480" cy="80856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596880" y="2874960"/>
              <a:ext cx="5270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80240" y="33764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74040" y="5006880"/>
            <a:ext cx="1046520" cy="939240"/>
            <a:chOff x="374040" y="5006880"/>
            <a:chExt cx="1046520" cy="93924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558720" y="5006880"/>
              <a:ext cx="6775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74040" y="5425920"/>
              <a:ext cx="104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Invocation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71160" y="3903840"/>
            <a:ext cx="1054080" cy="882000"/>
            <a:chOff x="371160" y="3903840"/>
            <a:chExt cx="1054080" cy="882000"/>
          </a:xfrm>
        </p:grpSpPr>
        <p:sp>
          <p:nvSpPr>
            <p:cNvPr id="187" name=""/>
            <p:cNvSpPr/>
            <p:nvPr/>
          </p:nvSpPr>
          <p:spPr>
            <a:xfrm>
              <a:off x="371160" y="426564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Publishing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Clients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433440" y="3903840"/>
              <a:ext cx="838800" cy="39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 flipV="1">
            <a:off x="2368440" y="4309560"/>
            <a:ext cx="2327400" cy="11718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24160" y="3711600"/>
            <a:ext cx="2406600" cy="4698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43240" y="2039760"/>
            <a:ext cx="2341440" cy="19893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78200" y="3927600"/>
            <a:ext cx="824040" cy="459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A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90960" y="2476440"/>
            <a:ext cx="507960" cy="301860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cc"/>
                </a:solidFill>
                <a:latin typeface="Arial"/>
              </a:rPr>
              <a:t>SOAP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4960" y="4127400"/>
            <a:ext cx="4111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38800" y="1882800"/>
            <a:ext cx="256356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ublishing Platforms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79600" y="2211480"/>
            <a:ext cx="11160" cy="17589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06480" y="15796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</a:rPr>
              <a:t>Web Servic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400" y="19400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</a:rPr>
              <a:t>Java Cod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13680" y="22431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</a:rPr>
              <a:t>Web Applicatio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3920" y="3040200"/>
            <a:ext cx="900000" cy="36828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cc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78600" y="2055960"/>
            <a:ext cx="11509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86520" y="2157480"/>
            <a:ext cx="112068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993000" y="1716120"/>
            <a:ext cx="1130400" cy="2188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867280" y="3168720"/>
            <a:ext cx="1288800" cy="1984320"/>
            <a:chOff x="5867280" y="3168720"/>
            <a:chExt cx="1288800" cy="1984320"/>
          </a:xfrm>
        </p:grpSpPr>
        <p:sp>
          <p:nvSpPr>
            <p:cNvPr id="205" name=""/>
            <p:cNvSpPr/>
            <p:nvPr/>
          </p:nvSpPr>
          <p:spPr>
            <a:xfrm>
              <a:off x="5867280" y="3168720"/>
              <a:ext cx="1288800" cy="198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63480" y="3209760"/>
              <a:ext cx="893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4880" y="3876840"/>
              <a:ext cx="992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76000" y="4543560"/>
              <a:ext cx="107064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161120" y="4124160"/>
            <a:ext cx="3128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046160" y="1635120"/>
            <a:ext cx="1235880" cy="4480920"/>
            <a:chOff x="1046160" y="1635120"/>
            <a:chExt cx="1235880" cy="4480920"/>
          </a:xfrm>
        </p:grpSpPr>
        <p:sp>
          <p:nvSpPr>
            <p:cNvPr id="211" name=""/>
            <p:cNvSpPr/>
            <p:nvPr/>
          </p:nvSpPr>
          <p:spPr>
            <a:xfrm>
              <a:off x="1762920" y="1635120"/>
              <a:ext cx="519120" cy="448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J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v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a </a:t>
              </a: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46160" y="1932120"/>
              <a:ext cx="671400" cy="45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4000" y="3119400"/>
              <a:ext cx="490320" cy="144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25520" y="4575240"/>
              <a:ext cx="41436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208160" y="5802480"/>
              <a:ext cx="538200" cy="20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295280" y="2138400"/>
            <a:ext cx="355680" cy="2826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93760" y="3160800"/>
            <a:ext cx="473040" cy="2746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28760" y="4097160"/>
            <a:ext cx="357120" cy="18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274760" y="5145120"/>
            <a:ext cx="422280" cy="1015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69800" y="1763640"/>
            <a:ext cx="857160" cy="891360"/>
            <a:chOff x="469800" y="1763640"/>
            <a:chExt cx="857160" cy="891360"/>
          </a:xfrm>
        </p:grpSpPr>
        <p:graphicFrame>
          <p:nvGraphicFramePr>
            <p:cNvPr id="221" name=""/>
            <p:cNvGraphicFramePr/>
            <p:nvPr/>
          </p:nvGraphicFramePr>
          <p:xfrm>
            <a:off x="548280" y="1763640"/>
            <a:ext cx="70128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280" y="1763640"/>
                      <a:ext cx="7012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>
              <a:off x="469800" y="234792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cc"/>
                  </a:solidFill>
                  <a:latin typeface="Arial"/>
                </a:rPr>
                <a:t>WSMX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Publisher Interface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55680" y="1333440"/>
            <a:ext cx="5600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3680" y="260280"/>
            <a:ext cx="91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An Ontology of Choreographi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633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0" y="4948920"/>
            <a:ext cx="3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</a:t>
            </a:r>
            <a:r>
              <a:rPr b="0" lang="en-GB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9640" y="1368360"/>
            <a:ext cx="699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Choreography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Input roles (name, type, soap binding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Deployed WS UR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Message Exchange Patter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262400" y="3008160"/>
            <a:ext cx="2087280" cy="863640"/>
            <a:chOff x="4262400" y="3008160"/>
            <a:chExt cx="2087280" cy="863640"/>
          </a:xfrm>
        </p:grpSpPr>
        <p:sp>
          <p:nvSpPr>
            <p:cNvPr id="231" name=""/>
            <p:cNvSpPr/>
            <p:nvPr/>
          </p:nvSpPr>
          <p:spPr>
            <a:xfrm>
              <a:off x="4262400" y="3008160"/>
              <a:ext cx="2016000" cy="863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2400" y="3295800"/>
              <a:ext cx="20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Message Sequence 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014560" y="4203720"/>
            <a:ext cx="2189160" cy="863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5840" y="449280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  <a:ea typeface="Arial"/>
              </a:rPr>
              <a:t>Parallel Message Sequenc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191280" y="4275000"/>
            <a:ext cx="2158560" cy="863640"/>
            <a:chOff x="6191280" y="4275000"/>
            <a:chExt cx="2158560" cy="863640"/>
          </a:xfrm>
        </p:grpSpPr>
        <p:sp>
          <p:nvSpPr>
            <p:cNvPr id="236" name=""/>
            <p:cNvSpPr/>
            <p:nvPr/>
          </p:nvSpPr>
          <p:spPr>
            <a:xfrm>
              <a:off x="6191280" y="4275000"/>
              <a:ext cx="2016000" cy="863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62560" y="4563720"/>
              <a:ext cx="20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Serial Message Sequence 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389480" y="5643720"/>
            <a:ext cx="2089080" cy="863280"/>
            <a:chOff x="4389480" y="5643720"/>
            <a:chExt cx="2089080" cy="863280"/>
          </a:xfrm>
        </p:grpSpPr>
        <p:sp>
          <p:nvSpPr>
            <p:cNvPr id="239" name=""/>
            <p:cNvSpPr/>
            <p:nvPr/>
          </p:nvSpPr>
          <p:spPr>
            <a:xfrm>
              <a:off x="4462560" y="5643720"/>
              <a:ext cx="2016000" cy="8632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89480" y="587340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all at once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46200" y="5572080"/>
            <a:ext cx="2087640" cy="863640"/>
            <a:chOff x="646200" y="5572080"/>
            <a:chExt cx="2087640" cy="863640"/>
          </a:xfrm>
        </p:grpSpPr>
        <p:sp>
          <p:nvSpPr>
            <p:cNvPr id="242" name=""/>
            <p:cNvSpPr/>
            <p:nvPr/>
          </p:nvSpPr>
          <p:spPr>
            <a:xfrm>
              <a:off x="717480" y="5572080"/>
              <a:ext cx="2016360" cy="8636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6200" y="585936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2 at once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cxnSp>
        <p:nvCxnSpPr>
          <p:cNvPr id="244" name=""/>
          <p:cNvCxnSpPr>
            <a:stCxn id="233" idx="7"/>
            <a:endCxn id="231" idx="3"/>
          </p:cNvCxnSpPr>
          <p:nvPr/>
        </p:nvCxnSpPr>
        <p:spPr>
          <a:xfrm flipV="1">
            <a:off x="3882960" y="3754080"/>
            <a:ext cx="675360" cy="5673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6" idx="1"/>
            <a:endCxn id="231" idx="5"/>
          </p:cNvCxnSpPr>
          <p:nvPr/>
        </p:nvCxnSpPr>
        <p:spPr>
          <a:xfrm flipH="1" flipV="1">
            <a:off x="5982840" y="3753720"/>
            <a:ext cx="504000" cy="63900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2" idx="0"/>
            <a:endCxn id="233" idx="3"/>
          </p:cNvCxnSpPr>
          <p:nvPr/>
        </p:nvCxnSpPr>
        <p:spPr>
          <a:xfrm flipV="1">
            <a:off x="1725480" y="4949640"/>
            <a:ext cx="610560" cy="61344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9" idx="1"/>
            <a:endCxn id="233" idx="5"/>
          </p:cNvCxnSpPr>
          <p:nvPr/>
        </p:nvCxnSpPr>
        <p:spPr>
          <a:xfrm flipH="1" flipV="1">
            <a:off x="3882600" y="4949280"/>
            <a:ext cx="875520" cy="81180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2878200" y="6148440"/>
            <a:ext cx="1224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Choreography as SWS (1/2)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3120" y="1320480"/>
            <a:ext cx="748008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horeograph W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WSMO WS, ontology, message history, current messag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New messag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arse Incoming messag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WSMO WS, ontology, XML based messag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structured messag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arse message conten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WSMO WS, ontology, message conten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Ontology structure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Choreography as SWS (2/2)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610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Find contender message handle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WSMO WS, ontology, structured message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Message handler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Handle Messag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Message Handler, structure message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New message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voke W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Structured message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Result of WS invocation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03440" y="1542960"/>
            <a:ext cx="8518320" cy="3621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0" y="237960"/>
            <a:ext cx="7810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Visualizing a Choreography Interaction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55" name=""/>
          <p:cNvSpPr/>
          <p:nvPr/>
        </p:nvSpPr>
        <p:spPr>
          <a:xfrm>
            <a:off x="733320" y="1749600"/>
            <a:ext cx="1982880" cy="33933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Initialize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nd id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User nam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assword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End Exchang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alanc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ay Tax Bill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Check Account 2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Transfer Funds -&gt; 2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Check Account 3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Transfer Funds -&gt; 3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Check Account 4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Transfer Funds -&gt; 4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71920" y="4657680"/>
            <a:ext cx="1466640" cy="2200320"/>
            <a:chOff x="3571920" y="4657680"/>
            <a:chExt cx="1466640" cy="2200320"/>
          </a:xfrm>
        </p:grpSpPr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3571920" y="4657680"/>
              <a:ext cx="14666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606840" y="4944960"/>
              <a:ext cx="1217520" cy="1554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Send id 2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Send id 7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Send id 13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Send id 19</a:t>
              </a: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089920" y="2070000"/>
            <a:ext cx="279360" cy="26676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794200" y="1406520"/>
            <a:ext cx="2795760" cy="5451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645000" y="5499000"/>
            <a:ext cx="939600" cy="21600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878440" y="2101680"/>
          <a:ext cx="2365560" cy="3548160"/>
        </p:xfrm>
        <a:graphic>
          <a:graphicData uri="http://schemas.openxmlformats.org/drawingml/2006/table">
            <a:tbl>
              <a:tblPr/>
              <a:tblGrid>
                <a:gridCol w="2365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end ID 13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ccount-management-ontology 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er-id-web-service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rs.open.ac.uk 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ww.friendly-bank.com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resent-event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rs-3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domingue 0110765432”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874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9-9-04-11-10-10</a:t>
                      </a:r>
                      <a:endParaRPr b="0" lang="en-US" sz="14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Summary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8360" y="1320480"/>
            <a:ext cx="7248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IRS-III Choreography based on Graf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ation &amp; initiative dimen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alogue management via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sage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ssage hand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horeography Discover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tology of choreograp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horeography as SW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Visualizing choreography interac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759960" y="2652840"/>
            <a:ext cx="803124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Towards a Choreography for IRS-II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efania Galiz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nd John Domingu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65480" y="422280"/>
            <a:ext cx="5029200" cy="16192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0080" y="649116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resentation @ WSMO Workshop, September 2004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77920" y="1704600"/>
            <a:ext cx="69724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Internet Reasoning Service is an infrastructure for publishing, locating, executing and composing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emantic web servic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, organized according to th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WSMO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framework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cc"/>
                </a:solidFill>
                <a:latin typeface="AGaramond Bold"/>
              </a:rPr>
              <a:t>WSMO Interfaces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44680" y="1535040"/>
            <a:ext cx="4772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8200" y="826920"/>
            <a:ext cx="8771040" cy="527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83960"/>
            <a:ext cx="9450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AGaramond Bold"/>
              </a:rPr>
              <a:t>Overview of Choreography &amp; Orchestration 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Two Problems in Choreography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165420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Managing dialogu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horeography discovery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ring 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02200" y="4184640"/>
            <a:ext cx="0" cy="12891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8160" y="2062080"/>
            <a:ext cx="0" cy="12891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4184640"/>
            <a:ext cx="0" cy="12891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02200" y="2066760"/>
            <a:ext cx="0" cy="1289160"/>
          </a:xfrm>
          <a:prstGeom prst="line">
            <a:avLst/>
          </a:prstGeom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02000" y="4827600"/>
            <a:ext cx="1498680" cy="93600"/>
          </a:xfrm>
          <a:prstGeom prst="rightArrow">
            <a:avLst>
              <a:gd name="adj1" fmla="val 50000"/>
              <a:gd name="adj2" fmla="val 40028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7960" y="4827600"/>
            <a:ext cx="1498680" cy="93600"/>
          </a:xfrm>
          <a:prstGeom prst="rightArrow">
            <a:avLst>
              <a:gd name="adj1" fmla="val 50000"/>
              <a:gd name="adj2" fmla="val 40028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1309680" y="2708280"/>
            <a:ext cx="1496880" cy="93600"/>
          </a:xfrm>
          <a:prstGeom prst="rightArrow">
            <a:avLst>
              <a:gd name="adj1" fmla="val 50000"/>
              <a:gd name="adj2" fmla="val 39980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4203720" y="2708280"/>
            <a:ext cx="1496880" cy="93600"/>
          </a:xfrm>
          <a:prstGeom prst="rightArrow">
            <a:avLst>
              <a:gd name="adj1" fmla="val 50000"/>
              <a:gd name="adj2" fmla="val 39980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02080" y="2433600"/>
            <a:ext cx="20016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02000" y="4551480"/>
            <a:ext cx="20016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06760" y="4551480"/>
            <a:ext cx="19980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6760" y="2433600"/>
            <a:ext cx="19980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99120" y="20667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6600" y="20667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99120" y="410832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25680" y="407664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1360" y="1716120"/>
            <a:ext cx="11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Receiv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03880" y="3740040"/>
            <a:ext cx="11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Present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09840" y="3740040"/>
            <a:ext cx="11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Provid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03680" y="1697040"/>
            <a:ext cx="11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Obtai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7299360" y="3962160"/>
            <a:ext cx="544320" cy="73080"/>
          </a:xfrm>
          <a:prstGeom prst="rightArrow">
            <a:avLst>
              <a:gd name="adj1" fmla="val 50000"/>
              <a:gd name="adj2" fmla="val 186207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4513320"/>
            <a:ext cx="1569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7600" y="3316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3680" y="374652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Flow of informat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67720" y="4441680"/>
            <a:ext cx="11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Initiative marker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260280"/>
            <a:ext cx="912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Choreography Framework [Greef &amp; Breuker]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8240" y="2038320"/>
            <a:ext cx="768600" cy="60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552840" y="1949400"/>
            <a:ext cx="768240" cy="600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96760" y="4083120"/>
            <a:ext cx="768600" cy="600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568680" y="3981600"/>
            <a:ext cx="7682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4320" y="260280"/>
            <a:ext cx="91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Communication Example (1/2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5240" y="1238400"/>
            <a:ext cx="7893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Trip from Milton Keynes (UK) to southern Italy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 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The user and IRS have initiativ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  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  <a:ea typeface="Arial"/>
              </a:rPr>
              <a:t>The user send message with his constraint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93840" y="4175280"/>
            <a:ext cx="1079280" cy="1584000"/>
            <a:chOff x="393840" y="4175280"/>
            <a:chExt cx="1079280" cy="158400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662040" y="4390920"/>
              <a:ext cx="63432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63480" y="52686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User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3840" y="4175280"/>
              <a:ext cx="1079280" cy="1584000"/>
            </a:xfrm>
            <a:prstGeom prst="ellipse">
              <a:avLst/>
            </a:prstGeom>
            <a:noFill/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618240" y="5289480"/>
            <a:ext cx="2028960" cy="951120"/>
            <a:chOff x="6618240" y="5289480"/>
            <a:chExt cx="2028960" cy="9511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 rot="894000">
              <a:off x="6827760" y="5471640"/>
              <a:ext cx="147816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18240" y="5289480"/>
              <a:ext cx="2028960" cy="927360"/>
            </a:xfrm>
            <a:prstGeom prst="ellipse">
              <a:avLst/>
            </a:prstGeom>
            <a:noFill/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09160" y="596412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Airline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116760" y="2681280"/>
            <a:ext cx="1687320" cy="971280"/>
            <a:chOff x="6116760" y="2681280"/>
            <a:chExt cx="1687320" cy="971280"/>
          </a:xfrm>
        </p:grpSpPr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96840" y="2681280"/>
              <a:ext cx="10890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116760" y="2681280"/>
              <a:ext cx="1687320" cy="946080"/>
            </a:xfrm>
            <a:prstGeom prst="ellipse">
              <a:avLst/>
            </a:prstGeom>
            <a:noFill/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97800" y="3376080"/>
              <a:ext cx="47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Bus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026120" y="3881520"/>
            <a:ext cx="1503360" cy="1048680"/>
            <a:chOff x="7026120" y="3881520"/>
            <a:chExt cx="1503360" cy="1048680"/>
          </a:xfrm>
        </p:grpSpPr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7157160" y="4000680"/>
              <a:ext cx="111132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026120" y="3881520"/>
              <a:ext cx="1503360" cy="1010520"/>
            </a:xfrm>
            <a:prstGeom prst="ellipse">
              <a:avLst/>
            </a:prstGeom>
            <a:noFill/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33360" y="465372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Train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786000">
            <a:off x="4803480" y="5533920"/>
            <a:ext cx="1571400" cy="154080"/>
          </a:xfrm>
          <a:prstGeom prst="leftRightArrow">
            <a:avLst>
              <a:gd name="adj1" fmla="val 50000"/>
              <a:gd name="adj2" fmla="val 203027"/>
            </a:avLst>
          </a:prstGeom>
          <a:solidFill>
            <a:srgbClr val="33cc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9040" y="4587840"/>
            <a:ext cx="1425600" cy="122400"/>
          </a:xfrm>
          <a:prstGeom prst="leftRightArrow">
            <a:avLst>
              <a:gd name="adj1" fmla="val 50000"/>
              <a:gd name="adj2" fmla="val 231862"/>
            </a:avLst>
          </a:prstGeom>
          <a:solidFill>
            <a:srgbClr val="33cc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958400">
            <a:off x="4592520" y="3752640"/>
            <a:ext cx="1368720" cy="126720"/>
          </a:xfrm>
          <a:prstGeom prst="leftRightArrow">
            <a:avLst>
              <a:gd name="adj1" fmla="val 50000"/>
              <a:gd name="adj2" fmla="val 215022"/>
            </a:avLst>
          </a:prstGeom>
          <a:solidFill>
            <a:srgbClr val="33cc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9360" y="4870440"/>
            <a:ext cx="858600" cy="285840"/>
          </a:xfrm>
          <a:prstGeom prst="leftRightArrow">
            <a:avLst>
              <a:gd name="adj1" fmla="val 50000"/>
              <a:gd name="adj2" fmla="val 59797"/>
            </a:avLst>
          </a:prstGeom>
          <a:solidFill>
            <a:srgbClr val="33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698920" y="4194000"/>
            <a:ext cx="1866600" cy="1457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1520" y="5664240"/>
            <a:ext cx="20016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880" y="5662440"/>
            <a:ext cx="20016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4320" y="260280"/>
            <a:ext cx="91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  <a:ea typeface="Arial"/>
              </a:rPr>
              <a:t>Communication Example (2/2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5840" y="1327320"/>
            <a:ext cx="3510000" cy="475560"/>
            <a:chOff x="2355840" y="1327320"/>
            <a:chExt cx="3510000" cy="475560"/>
          </a:xfrm>
        </p:grpSpPr>
        <p:sp>
          <p:nvSpPr>
            <p:cNvPr id="105" name=""/>
            <p:cNvSpPr/>
            <p:nvPr/>
          </p:nvSpPr>
          <p:spPr>
            <a:xfrm>
              <a:off x="3102120" y="1658880"/>
              <a:ext cx="2016000" cy="144000"/>
            </a:xfrm>
            <a:prstGeom prst="rightArrow">
              <a:avLst>
                <a:gd name="adj1" fmla="val 50000"/>
                <a:gd name="adj2" fmla="val 350000"/>
              </a:avLst>
            </a:prstGeom>
            <a:solidFill>
              <a:srgbClr val="33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55840" y="1327320"/>
              <a:ext cx="35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quire a trip with constraints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030480" y="1919160"/>
            <a:ext cx="2160720" cy="459000"/>
            <a:chOff x="3030480" y="1919160"/>
            <a:chExt cx="2160720" cy="459000"/>
          </a:xfrm>
        </p:grpSpPr>
        <p:sp>
          <p:nvSpPr>
            <p:cNvPr id="108" name=""/>
            <p:cNvSpPr/>
            <p:nvPr/>
          </p:nvSpPr>
          <p:spPr>
            <a:xfrm rot="10800000">
              <a:off x="3102120" y="2233440"/>
              <a:ext cx="2016000" cy="144720"/>
            </a:xfrm>
            <a:prstGeom prst="rightArrow">
              <a:avLst>
                <a:gd name="adj1" fmla="val 50000"/>
                <a:gd name="adj2" fmla="val 348259"/>
              </a:avLst>
            </a:prstGeom>
            <a:solidFill>
              <a:srgbClr val="ff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30480" y="191916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propose Itinerary</a:t>
              </a:r>
              <a:r>
                <a:rPr b="0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66760" y="2494080"/>
            <a:ext cx="4087800" cy="428040"/>
            <a:chOff x="2066760" y="2494080"/>
            <a:chExt cx="4087800" cy="428040"/>
          </a:xfrm>
        </p:grpSpPr>
        <p:sp>
          <p:nvSpPr>
            <p:cNvPr id="111" name=""/>
            <p:cNvSpPr/>
            <p:nvPr/>
          </p:nvSpPr>
          <p:spPr>
            <a:xfrm>
              <a:off x="3103560" y="2778120"/>
              <a:ext cx="2016000" cy="144000"/>
            </a:xfrm>
            <a:prstGeom prst="rightArrow">
              <a:avLst>
                <a:gd name="adj1" fmla="val 50000"/>
                <a:gd name="adj2" fmla="val 350000"/>
              </a:avLst>
            </a:prstGeom>
            <a:solidFill>
              <a:srgbClr val="33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66760" y="2494080"/>
              <a:ext cx="40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Negotiation: change constraints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886120" y="3603600"/>
            <a:ext cx="2449440" cy="433440"/>
            <a:chOff x="2886120" y="3603600"/>
            <a:chExt cx="2449440" cy="433440"/>
          </a:xfrm>
        </p:grpSpPr>
        <p:sp>
          <p:nvSpPr>
            <p:cNvPr id="114" name=""/>
            <p:cNvSpPr/>
            <p:nvPr/>
          </p:nvSpPr>
          <p:spPr>
            <a:xfrm>
              <a:off x="3103560" y="3892680"/>
              <a:ext cx="2016000" cy="144360"/>
            </a:xfrm>
            <a:prstGeom prst="rightArrow">
              <a:avLst>
                <a:gd name="adj1" fmla="val 50000"/>
                <a:gd name="adj2" fmla="val 349127"/>
              </a:avLst>
            </a:prstGeom>
            <a:solidFill>
              <a:srgbClr val="3366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86120" y="3603600"/>
              <a:ext cx="24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Book tickets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805120" y="3038400"/>
            <a:ext cx="2610000" cy="449280"/>
            <a:chOff x="2805120" y="3038400"/>
            <a:chExt cx="2610000" cy="449280"/>
          </a:xfrm>
        </p:grpSpPr>
        <p:sp>
          <p:nvSpPr>
            <p:cNvPr id="117" name=""/>
            <p:cNvSpPr/>
            <p:nvPr/>
          </p:nvSpPr>
          <p:spPr>
            <a:xfrm rot="10800000">
              <a:off x="3102120" y="3342960"/>
              <a:ext cx="2016000" cy="144720"/>
            </a:xfrm>
            <a:prstGeom prst="rightArrow">
              <a:avLst>
                <a:gd name="adj1" fmla="val 50000"/>
                <a:gd name="adj2" fmla="val 348259"/>
              </a:avLst>
            </a:prstGeom>
            <a:solidFill>
              <a:srgbClr val="ff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05120" y="303840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propose Itinerary 2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30480" y="4152960"/>
            <a:ext cx="2160360" cy="430200"/>
            <a:chOff x="3030480" y="4152960"/>
            <a:chExt cx="2160360" cy="430200"/>
          </a:xfrm>
        </p:grpSpPr>
        <p:sp>
          <p:nvSpPr>
            <p:cNvPr id="120" name=""/>
            <p:cNvSpPr/>
            <p:nvPr/>
          </p:nvSpPr>
          <p:spPr>
            <a:xfrm rot="10800000">
              <a:off x="3101400" y="4438440"/>
              <a:ext cx="2016360" cy="144720"/>
            </a:xfrm>
            <a:prstGeom prst="rightArrow">
              <a:avLst>
                <a:gd name="adj1" fmla="val 50000"/>
                <a:gd name="adj2" fmla="val 348321"/>
              </a:avLst>
            </a:prstGeom>
            <a:solidFill>
              <a:srgbClr val="ff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0480" y="415296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  <a:ea typeface="Arial"/>
                </a:rPr>
                <a:t>Send statement 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31240" y="4875120"/>
            <a:ext cx="966600" cy="230400"/>
          </a:xfrm>
          <a:prstGeom prst="rightArrow">
            <a:avLst>
              <a:gd name="adj1" fmla="val 50000"/>
              <a:gd name="adj2" fmla="val 104883"/>
            </a:avLst>
          </a:prstGeom>
          <a:solidFill>
            <a:srgbClr val="33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84920" y="45594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  <a:ea typeface="Arial"/>
              </a:rPr>
              <a:t>present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84920" y="5229360"/>
            <a:ext cx="1512720" cy="540720"/>
            <a:chOff x="7684920" y="5229360"/>
            <a:chExt cx="1512720" cy="540720"/>
          </a:xfrm>
        </p:grpSpPr>
        <p:sp>
          <p:nvSpPr>
            <p:cNvPr id="125" name=""/>
            <p:cNvSpPr/>
            <p:nvPr/>
          </p:nvSpPr>
          <p:spPr>
            <a:xfrm rot="10800000">
              <a:off x="7944840" y="5565600"/>
              <a:ext cx="981000" cy="204480"/>
            </a:xfrm>
            <a:prstGeom prst="rightArrow">
              <a:avLst>
                <a:gd name="adj1" fmla="val 50000"/>
                <a:gd name="adj2" fmla="val 119938"/>
              </a:avLst>
            </a:prstGeom>
            <a:solidFill>
              <a:srgbClr val="ff00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84920" y="522936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obtain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63520" y="4878360"/>
            <a:ext cx="4138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Proposal 1: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Flight from Luton to Amsterda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  </a:t>
            </a: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Flight from Amsterdam to Bologn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9240" y="4870440"/>
            <a:ext cx="3667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Proposal 2: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 Narrow"/>
                <a:ea typeface="Arial"/>
              </a:rPr>
              <a:t>Flight from Luton to Reggio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199200" y="2409840"/>
            <a:ext cx="2406600" cy="1406520"/>
            <a:chOff x="6199200" y="2409840"/>
            <a:chExt cx="2406600" cy="140652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 rot="894000">
              <a:off x="6376680" y="2727000"/>
              <a:ext cx="200808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199200" y="2409840"/>
              <a:ext cx="2406600" cy="1406520"/>
            </a:xfrm>
            <a:prstGeom prst="ellipse">
              <a:avLst/>
            </a:prstGeom>
            <a:noFill/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89760" y="347508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cc"/>
                  </a:solidFill>
                  <a:latin typeface="Arial"/>
                  <a:ea typeface="Arial"/>
                </a:rPr>
                <a:t>Airline</a:t>
              </a:r>
              <a:endParaRPr b="0" lang="en-US" sz="1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7760" y="2386080"/>
            <a:ext cx="1866960" cy="145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142480" y="4097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 Narrow"/>
                <a:ea typeface="Arial"/>
              </a:rPr>
              <a:t>Key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624120"/>
            <a:ext cx="199800" cy="18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1:14:15Z</dcterms:created>
  <dc:creator>KMi</dc:creator>
  <dc:description/>
  <dc:language>en-US</dc:language>
  <cp:lastModifiedBy>John Domingue</cp:lastModifiedBy>
  <cp:lastPrinted>2001-02-27T15:21:15Z</cp:lastPrinted>
  <dcterms:modified xsi:type="dcterms:W3CDTF">2004-09-30T07:43:13Z</dcterms:modified>
  <cp:revision>348</cp:revision>
  <dc:subject/>
  <dc:title>No Slide Title</dc:title>
</cp:coreProperties>
</file>