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A08F-0F64-4BC0-B592-DCBD59F9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9337-EFDD-4B20-AEEA-4EDC2D2A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4967-731D-4BA2-A30A-65E671B3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0672-A1CC-4AF1-8B26-02909834A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E298-F6EA-4718-AA39-F0B822E9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0715-9F19-48F2-9E75-459BBDFA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B2A3-6AEF-466A-A925-B35FD8DE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BA4F-23AF-4C3C-B325-BDC9C311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2491-F689-4A8D-A091-793D51F6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83F1-FE63-4CA1-AD25-ADC3DC25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0F4D-19BB-42D9-BE7B-9775A8B2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0C39-400E-4F22-9D4E-6653CF91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638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6267-D6AE-4C5D-972A-BD4EAD3147DB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niwa" descr=""/>
          <p:cNvPicPr/>
          <p:nvPr/>
        </p:nvPicPr>
        <p:blipFill>
          <a:blip r:embed="rId2"/>
          <a:stretch/>
        </p:blipFill>
        <p:spPr>
          <a:xfrm>
            <a:off x="6629400" y="6172200"/>
            <a:ext cx="1676520" cy="612720"/>
          </a:xfrm>
          <a:prstGeom prst="rect">
            <a:avLst/>
          </a:prstGeom>
          <a:ln w="0">
            <a:noFill/>
          </a:ln>
        </p:spPr>
      </p:pic>
      <p:pic>
        <p:nvPicPr>
          <p:cNvPr id="7" name="deri_org_head" descr=""/>
          <p:cNvPicPr/>
          <p:nvPr/>
        </p:nvPicPr>
        <p:blipFill>
          <a:blip r:embed="rId3"/>
          <a:stretch/>
        </p:blipFill>
        <p:spPr>
          <a:xfrm>
            <a:off x="685800" y="6248520"/>
            <a:ext cx="332568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MBX12"/>
              </a:rPr>
              <a:t>Demonstrating WSMX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MBX12"/>
              </a:rPr>
              <a:t>Least Cost Supply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lcsm2" descr=""/>
          <p:cNvPicPr/>
          <p:nvPr/>
        </p:nvPicPr>
        <p:blipFill>
          <a:blip r:embed="rId1"/>
          <a:stretch/>
        </p:blipFill>
        <p:spPr>
          <a:xfrm>
            <a:off x="1752480" y="609480"/>
            <a:ext cx="5334120" cy="4667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14400" y="609480"/>
            <a:ext cx="7086600" cy="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Use case: Ordering Broadband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SMX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WS-BPEL</a:t>
            </a:r>
            <a:r>
              <a:rPr b="0" lang="de-DE" sz="32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Extending WS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ion environment for Semantic Web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reference implementation for WSMO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vice oriented and event-based architectur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ouples service providers and requester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ynamic discovery based on Goal-Capability match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d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c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SMX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6858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SMX Discovery Mecha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ed on matching of logical goals with WS capa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als and capabilities have postconditions and eff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pabilities additionally have preconditions and assump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4191120"/>
            <a:ext cx="1676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WSMX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8660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nt based service oriented architectur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 statu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de base established – available at SourceFo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mediation component implem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component interfaces defined and partially implem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technologies use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ache Tomcat and Apache Ax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base – mySQ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clipse IDE and Ant as build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Use case: Ordering Broadband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WSMX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S-BPEL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Extending WS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S-BPEL 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ss modelling language based 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b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dely used for automation of business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PEL was originally developed by BEA, IBM, and Microsoft. Version 1.1 also includes input from SAP and Siebel.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ASIS TC “web services business execution language” now continues the standardization of BP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S-BPEL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WS-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BPEL defines business processes consisting of stateful long-running interactions in which each interaction has a beginning, a defined behavior and an end, modeled by a f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low is composed by a sequence of activiti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The behavior context for each activity is provided by a scope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 scope can provide fault handlers, event handlers, compensation handlers and a set of data variables and correlation s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case: Ordering Broadband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SMX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S-BPEL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tending WS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lusion and Futur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S-BPEL Process Flow Scope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514600" y="2286000"/>
          <a:ext cx="4343400" cy="26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286000"/>
                    <a:ext cx="43434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S-BPEL Process Flow Scope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for event driven flow exec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in WSDL schema defined messages for internal or external purpo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rrelati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definitions of message parts which identify particularly process instanc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ssion I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ault handl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defines what happen if an exception has been thr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vent handl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defines what happen if an event occur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S-BPEL Activities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a blocking wait for a matching message to arr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y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a message in reply to a message which was sent by a &lt;receive&gt;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ke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ke a one-way or request-response operation on a port type offered by  a part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values in variab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w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a fault inside the business 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till a certain time has pass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ty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 a “no-op” instruction into a business 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S-BPEL Activities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quence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e a collection of activities to be performed sequenti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witch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 a branch of activities from a set of choice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le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eat an activity till a certain condition of success has been m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ck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ock and wait  for a suitable message to arr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ow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y one or more activities to be performed concurr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ope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e a nested activity with its own associated variables, fault handlers and compensation handl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ensate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voke compensation in an inner scope i.e. from a fault handler or a compensation hand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dvantages of WS-BP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ic process compos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ss participants (partner‘s web services) must be defined and bound to the process flow at design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PEL standard is not about Semantic Web service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 discovery and bounding at run time not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ssage mediation not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PEL Engine Implem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PWS4J (Test engine from IBM Alphawor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alphaworks.ibm.com/tech/bpws4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t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PEL (First Open Source BPEL eng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activebpel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acle BPE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rocess manag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oracle.com/technology/products/ias/bpel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Use case: Ordering Broadband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WSMX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WS-BPEL</a:t>
            </a:r>
            <a:r>
              <a:rPr b="0" lang="de-DE" sz="32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tending WS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PEL 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WS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ion of WS-BPEL and WSMX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ic defined process flow provided by BP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nown services are invoked statically as described in the BPEL process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ynamic services will be discovered and invoked through invocation of WSMX engine by BPEL process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ynamic 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ervice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PEL static process invokes WSMX using its web service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put message sent from BPEL has a goal and input parame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SMX finds suitable services based 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 Inpu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al and handles with message mediation between BPEL message format and message format of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sen web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ding WS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mplement our use case is needed an extension of current WSMX service discovery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ur use case a capabilities of a web services can not be described static, they can differ (ADSL line providers supports some telephone numbers, set of supported ones differs and can not be coded directly as a service capabiliti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eb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emantic we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emantic Web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rrent shortcomings in WSM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 that providers are able to completely describe their Web Services in WSMX Capabilities Repositories at design time (static description) – providers need a mechanism to defer specification of their capabilities during runtim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operational behavior – WSMX does not support complex goals consisting of several subgoals.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urther step: WSMX understanding some process model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ditional WS 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rs cannot store a range of number they can provide a ASDL line for in WS Capability since it is changing very frequentl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ASDL line is purchased, its availability has to be checked for requested landline numb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: There is list of Conditional WS, which must be executed before selected Web Service can be executed itself –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 future this should be specified within logic expressions or in process model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ditional WS 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matching of logical goals with WS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als and capabilities have postconditions and eff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pabilities additionally have preconditions and assump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SMX adds concept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ditional web servi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cap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886200" y="3809880"/>
            <a:ext cx="1066320" cy="914040"/>
            <a:chOff x="3886200" y="3809880"/>
            <a:chExt cx="1066320" cy="91404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4467240" y="3809880"/>
              <a:ext cx="4852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3886200" y="3963240"/>
              <a:ext cx="575280" cy="53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4254480" y="4130280"/>
              <a:ext cx="637200" cy="59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"/>
          <p:cNvSpPr/>
          <p:nvPr/>
        </p:nvSpPr>
        <p:spPr>
          <a:xfrm>
            <a:off x="2362320" y="41148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362320" y="4495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29400" y="3581280"/>
            <a:ext cx="91440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365760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62920" y="365760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3886200"/>
            <a:ext cx="1526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86600" y="4038480"/>
            <a:ext cx="1522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86600" y="3581280"/>
            <a:ext cx="30492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809880"/>
            <a:ext cx="30456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9880" y="5562720"/>
            <a:ext cx="10670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nditional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62720" y="556272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nditional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248520" y="3886200"/>
            <a:ext cx="914400" cy="16765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495320" y="4038480"/>
            <a:ext cx="2210040" cy="152424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3809880"/>
            <a:ext cx="16002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114440" y="472428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4724280"/>
            <a:ext cx="990720" cy="838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257800" y="3809520"/>
            <a:ext cx="137160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4290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SMX Matchma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62720" y="396252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ossible Mat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533412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38098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45720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llection of 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62720" y="36576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48769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35812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48006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Step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3733920"/>
            <a:ext cx="1066680" cy="106668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tch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reque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ditional WS 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of the Conditions creates a new Event in the system, all new Events return typed Values, which can be processed by initializing compone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ll return results from intermediate Web Services indicate successful result, then WS conditions are fulfilled and execution of given WS can be perform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component called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rrelation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intains the relationships between main event and conditional events; Correlation Manager puts main event into sleep and once all the conditional events are in state consumed, it wakes the main event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ditional WS 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5105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started – not finished  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590920" y="1219320"/>
          <a:ext cx="4056120" cy="37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219320"/>
                    <a:ext cx="4056120" cy="37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siness Process Engine in WSM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execution engine is able to understand the given specification of the ordering process and manages the runtime execution of this proces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ecision has yet been made on a formalism for specifying complex goals. Solutions that are considered include YAWL or WS-BPE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approaches to Complex Goal: Conditional WS within logic expressions or Conditional WS specified in modeling langua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Use case: Ordering Broadband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WSMX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WS-BPEL</a:t>
            </a:r>
            <a:r>
              <a:rPr b="0" lang="de-DE" sz="32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Extending WS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hown how to integrate the WS-BPEL with WSMX to provide supporting for dynamic real integration use c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neral assumption of WSMX that providers should completely describe the functionality of their services at design time is unreason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 Manag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of WS-BPEL can be seen as temporary solution, the WSMX should have service composition capa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lization of the presented use c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nding of WSMX functiona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nd the logical language to include a built-in function that evaluates during run time to a web service c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 the process modelling component in WSMX that is able to execute complex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se case: Ordering Broadband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WSMX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WS-BPEL</a:t>
            </a:r>
            <a:r>
              <a:rPr b="0" lang="de-DE" sz="32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Extending WS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2b2b2"/>
                </a:solidFill>
                <a:latin typeface="Arial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demonstrating the potential of WSMX we selected a use case from the telecommunications s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net Service providers are extending their business with wholesaling of mobile and fixed line telephone services and unbundled data l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sy and flexible dynamic integration of suppliers that offer these services i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DSL line is a broadband Internet connection on top of a regular telephon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suppliers of unbundled ADSL lines are available depending on region where the customer is loc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lesalers need a flexible and dynamic integration of these suppliers in their back-end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SL line suppliers have different end point interfaces. Message mediation between wholesalers and ADSL supplier i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e suppliers differ in capability to provide an ADSL line for given phone number (it depends on reg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ast cost suppli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hich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n provide ADSL li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iven phone numb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must be dynamic found and bounded into a ordering process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Flow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ic wholesaler ordering ADSL line process is realized as a WS-BPEL complex process controlled  by an BPEL execution eng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 services for check of a bank card, availability of internet domain, billing etc. are invoked directly by the BPEL execution engin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SL suppliers have to register their services within the WSMX service repository where the capabilities and mapping rules should be sto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find proper ADSL provider, BPEL process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lesal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vokes WSMX engine sending him goal description and other needed information in form of a SOAP mes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lcsm1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257800" cy="48006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Case Process Flow 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6019920"/>
            <a:ext cx="7086600" cy="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15:13:39Z</dcterms:created>
  <dc:creator>Niwa</dc:creator>
  <dc:description/>
  <dc:language>en-US</dc:language>
  <cp:lastModifiedBy>bepe</cp:lastModifiedBy>
  <dcterms:modified xsi:type="dcterms:W3CDTF">2004-09-28T17:25:36Z</dcterms:modified>
  <cp:revision>70</cp:revision>
  <dc:subject/>
  <dc:title>PowerPoint-Präsentation</dc:title>
</cp:coreProperties>
</file>